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DA1-FA04-4D38-B905-E83B1FC0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E0D-37DE-4269-80B7-F613BD7D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237-DC7A-4767-94CD-C8E5F14A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12A-2E2C-4321-96F8-DC8F940F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9EDA-0701-4EA4-8C26-5C1E1390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E078-9220-43AB-8C5B-2F123FDE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82ED-11F4-4288-94E6-0CBBC292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069D-B856-49F9-9DE0-C0E5B964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0B9E-2986-47D1-B54A-5EEB6E93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3A33-C5B0-4A85-817C-46810CCF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552F-36A2-4358-95F1-D24270DA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C4D-FD2B-4942-B7E1-173D82E6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63C3-6A7C-4035-9663-C3053D8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D10E-8475-46E6-9815-1D783A6A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15B1-EEFC-4638-874E-6879686E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B3D2-15A8-42D6-B7A2-6F2BCAF1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49DF-29AB-4E8B-9079-80BC5F61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D34-8AEC-4D5F-9406-8B24A060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D7D-5FF5-499C-871B-07ECE8E8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8A7-F880-4057-B9FA-83D0BC8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709-0DD6-44E9-9889-F2F19A15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E74-3E76-4561-BCD8-C732A36B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4E7-16D4-4EA3-9701-5C850327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DDD-9169-43A7-BF81-9C1D780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F14F-6519-4EC9-A32D-44C164774D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2639-5D74-4828-A4BC-D32E7AE767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2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ansactions and Concurrency Contro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9</a:t>
            </a: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 conflict ru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41440" y="1949400"/>
            <a:ext cx="8776080" cy="3244680"/>
            <a:chOff x="541440" y="1949400"/>
            <a:chExt cx="8776080" cy="3244680"/>
          </a:xfrm>
        </p:grpSpPr>
        <p:sp>
          <p:nvSpPr>
            <p:cNvPr id="356" name=""/>
            <p:cNvSpPr/>
            <p:nvPr/>
          </p:nvSpPr>
          <p:spPr>
            <a:xfrm>
              <a:off x="560520" y="2039760"/>
              <a:ext cx="233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perations of diffe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73520" y="2307960"/>
              <a:ext cx="126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73680" y="2039760"/>
              <a:ext cx="81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nfl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38440" y="2039760"/>
              <a:ext cx="75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64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70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80520" y="277812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20920" y="2778120"/>
              <a:ext cx="31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pair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166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77800" y="2778120"/>
              <a:ext cx="112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4080" y="3119400"/>
              <a:ext cx="4786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es not depend on the order in which they 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27040" y="345888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ec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6440" y="380016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58480" y="380016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80520" y="380016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23800" y="3800160"/>
              <a:ext cx="238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86200" y="380016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48080" y="3800160"/>
              <a:ext cx="67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55840" y="380016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89720" y="3800160"/>
              <a:ext cx="102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6240" y="4141440"/>
              <a:ext cx="399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ends on the order of their 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20880" y="4141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7880" y="448128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8480" y="448128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80520" y="448128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4481280"/>
              <a:ext cx="31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pair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17720" y="448128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50880" y="4481280"/>
              <a:ext cx="112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16240" y="4822560"/>
              <a:ext cx="399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ends on the order of their 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20880" y="4822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440" y="1949400"/>
              <a:ext cx="87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440" y="2665080"/>
              <a:ext cx="87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440" y="5194080"/>
              <a:ext cx="87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non-serially equivalent interleaving of operations of 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98720" y="2112840"/>
            <a:ext cx="5383080" cy="2905200"/>
            <a:chOff x="1998720" y="2112840"/>
            <a:chExt cx="5383080" cy="2905200"/>
          </a:xfrm>
        </p:grpSpPr>
        <p:sp>
          <p:nvSpPr>
            <p:cNvPr id="391" name=""/>
            <p:cNvSpPr/>
            <p:nvPr/>
          </p:nvSpPr>
          <p:spPr>
            <a:xfrm>
              <a:off x="2067840" y="2201760"/>
              <a:ext cx="1514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60840" y="220176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27520" y="2201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040" y="2201760"/>
              <a:ext cx="1514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66040" y="22017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61160" y="2201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91040" y="2789280"/>
              <a:ext cx="122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 = read(i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90320" y="3179880"/>
              <a:ext cx="125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rite(i, 1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74120" y="3378240"/>
              <a:ext cx="122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 = read(j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73400" y="3770280"/>
              <a:ext cx="125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rite(j, 3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90320" y="4352760"/>
              <a:ext cx="125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rite(j, 2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73760" y="4552920"/>
              <a:ext cx="1282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z = read (i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98720" y="2112840"/>
              <a:ext cx="538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8720" y="2665440"/>
              <a:ext cx="538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8720" y="5016600"/>
              <a:ext cx="538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03760" y="2112840"/>
              <a:ext cx="0" cy="290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rty read when transactio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bor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5400" y="29480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05920" y="2948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5400" y="55166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64040" y="55166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05920" y="55166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3880" y="1776240"/>
            <a:ext cx="8655120" cy="3786480"/>
            <a:chOff x="623880" y="1776240"/>
            <a:chExt cx="8655120" cy="3786480"/>
          </a:xfrm>
        </p:grpSpPr>
        <p:sp>
          <p:nvSpPr>
            <p:cNvPr id="414" name=""/>
            <p:cNvSpPr/>
            <p:nvPr/>
          </p:nvSpPr>
          <p:spPr>
            <a:xfrm>
              <a:off x="831960" y="18129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57200" y="1812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05880" y="1812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80400" y="18129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55720" y="2225520"/>
              <a:ext cx="15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2120" y="2573280"/>
              <a:ext cx="284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balance + 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97320" y="18129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21120" y="1812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95360" y="1812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95880" y="2225520"/>
              <a:ext cx="15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92280" y="2573280"/>
              <a:ext cx="284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balance + 2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3880" y="1776240"/>
              <a:ext cx="4314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64040" y="177624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9600" y="1776240"/>
              <a:ext cx="4289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64040" y="1801800"/>
              <a:ext cx="1800" cy="1096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2840" y="308772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99960" y="30877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3880" y="2924280"/>
              <a:ext cx="33177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5400" y="292428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90960" y="2924280"/>
              <a:ext cx="94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64040" y="292428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89600" y="2924280"/>
              <a:ext cx="32907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05920" y="292428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31120" y="2924280"/>
              <a:ext cx="94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65400" y="294804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64040" y="2948040"/>
              <a:ext cx="180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05920" y="2948040"/>
              <a:ext cx="25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2120" y="3511440"/>
              <a:ext cx="284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balance + 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99960" y="35114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65400" y="342432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64040" y="3371760"/>
              <a:ext cx="1800" cy="400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05920" y="3371760"/>
              <a:ext cx="2520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93000" y="386568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40120" y="38656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65400" y="379584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64040" y="3795840"/>
              <a:ext cx="180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05920" y="3865680"/>
              <a:ext cx="25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92280" y="4376880"/>
              <a:ext cx="284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balance + 2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17920" y="43768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67240" y="43768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40120" y="43768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5400" y="421956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64040" y="4219560"/>
              <a:ext cx="180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05920" y="4289400"/>
              <a:ext cx="25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95520" y="4805280"/>
              <a:ext cx="1975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 trans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5400" y="4643280"/>
              <a:ext cx="2556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64040" y="4643280"/>
              <a:ext cx="1800" cy="400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305920" y="4643280"/>
              <a:ext cx="2520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4280" y="5229360"/>
              <a:ext cx="177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ort trans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3880" y="5560920"/>
              <a:ext cx="33177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65400" y="506736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65400" y="556092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90960" y="5560920"/>
              <a:ext cx="94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64040" y="5067360"/>
              <a:ext cx="1800" cy="450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64040" y="556092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89600" y="5560920"/>
              <a:ext cx="32907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5067360"/>
              <a:ext cx="25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05920" y="556092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31120" y="5560920"/>
              <a:ext cx="94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verwriting uncommitted valu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77800" y="2401920"/>
            <a:ext cx="8626320" cy="2138400"/>
            <a:chOff x="577800" y="2401920"/>
            <a:chExt cx="8626320" cy="2138400"/>
          </a:xfrm>
        </p:grpSpPr>
        <p:sp>
          <p:nvSpPr>
            <p:cNvPr id="475" name=""/>
            <p:cNvSpPr/>
            <p:nvPr/>
          </p:nvSpPr>
          <p:spPr>
            <a:xfrm>
              <a:off x="774720" y="24717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30200" y="24717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2120" y="24717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2080" y="2905200"/>
              <a:ext cx="186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10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35480" y="24717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89160" y="24717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66640" y="24717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32960" y="2905200"/>
              <a:ext cx="186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1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14360" y="33973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02080" y="3754440"/>
              <a:ext cx="186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10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14360" y="37544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32960" y="4140360"/>
              <a:ext cx="186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1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44880" y="414036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577800" y="2401920"/>
              <a:ext cx="8626320" cy="2136600"/>
              <a:chOff x="577800" y="2401920"/>
              <a:chExt cx="8626320" cy="2136600"/>
            </a:xfrm>
          </p:grpSpPr>
          <p:sp>
            <p:nvSpPr>
              <p:cNvPr id="489" name=""/>
              <p:cNvSpPr/>
              <p:nvPr/>
            </p:nvSpPr>
            <p:spPr>
              <a:xfrm>
                <a:off x="577800" y="2401920"/>
                <a:ext cx="862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77800" y="3294000"/>
                <a:ext cx="862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7800" y="4538520"/>
                <a:ext cx="862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4979880" y="2414520"/>
              <a:ext cx="0" cy="212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96960" y="1981080"/>
            <a:ext cx="8434440" cy="3083040"/>
            <a:chOff x="696960" y="1981080"/>
            <a:chExt cx="8434440" cy="3083040"/>
          </a:xfrm>
        </p:grpSpPr>
        <p:sp>
          <p:nvSpPr>
            <p:cNvPr id="495" name=""/>
            <p:cNvSpPr/>
            <p:nvPr/>
          </p:nvSpPr>
          <p:spPr>
            <a:xfrm>
              <a:off x="4352400" y="1981080"/>
              <a:ext cx="204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  : top-level 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060720" y="2484360"/>
              <a:ext cx="1006560" cy="5382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73800" y="2508120"/>
              <a:ext cx="677880" cy="514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46280" y="2273400"/>
              <a:ext cx="6365880" cy="234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46280" y="2273400"/>
              <a:ext cx="6388200" cy="25848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93760" y="2244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08960" y="232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8160" y="2244600"/>
              <a:ext cx="198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= 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90720" y="2268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04840" y="235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85480" y="2268360"/>
              <a:ext cx="198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= 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0720" y="3046320"/>
              <a:ext cx="461016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0720" y="3046320"/>
              <a:ext cx="4633920" cy="2574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87920" y="3046320"/>
              <a:ext cx="351144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87920" y="3046320"/>
              <a:ext cx="3533760" cy="2574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06360" y="303372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45080" y="303372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98680" y="301140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6960" y="3795840"/>
              <a:ext cx="17557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6960" y="3795840"/>
              <a:ext cx="177804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03320" y="3795840"/>
              <a:ext cx="175428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03320" y="3795840"/>
              <a:ext cx="177804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05280" y="3795840"/>
              <a:ext cx="31831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05280" y="3795840"/>
              <a:ext cx="320688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81800" y="378288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00880" y="4521240"/>
              <a:ext cx="17557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00880" y="4521240"/>
              <a:ext cx="177948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515600" y="3327480"/>
              <a:ext cx="468360" cy="468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92520" y="3303720"/>
              <a:ext cx="233280" cy="514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99040" y="3303720"/>
              <a:ext cx="351000" cy="4921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56440" y="4076640"/>
              <a:ext cx="257040" cy="420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916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05400" y="283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87840" y="2754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588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72960" y="2838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97880" y="2754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8280" y="352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1320" y="361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8000" y="352584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02960" y="352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16360" y="361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82680" y="352584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68480" y="42339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81160" y="4319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31000" y="423396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52800" y="35146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5840" y="3598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32520" y="358452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14040" y="4835520"/>
              <a:ext cx="104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6952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693280" y="3338640"/>
              <a:ext cx="43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b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7364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7016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32520" y="333864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276400" y="2612880"/>
              <a:ext cx="61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with exclusive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94080" y="251784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9440" y="251784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394080" y="280368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9440" y="280368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9408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7676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944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31920" y="1349280"/>
            <a:ext cx="6891480" cy="4684680"/>
            <a:chOff x="1231920" y="1349280"/>
            <a:chExt cx="6891480" cy="4684680"/>
          </a:xfrm>
        </p:grpSpPr>
        <p:sp>
          <p:nvSpPr>
            <p:cNvPr id="560" name=""/>
            <p:cNvSpPr/>
            <p:nvPr/>
          </p:nvSpPr>
          <p:spPr>
            <a:xfrm>
              <a:off x="1381320" y="1376280"/>
              <a:ext cx="1100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71760" y="1376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87680" y="1376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44920" y="137628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14440" y="1649520"/>
              <a:ext cx="208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14080" y="191772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13000" y="216864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58200" y="1376280"/>
              <a:ext cx="1100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9720" y="137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83640" y="1376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40520" y="149076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59640" y="1701720"/>
              <a:ext cx="208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58920" y="190512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58200" y="2173320"/>
              <a:ext cx="156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31920" y="1349280"/>
              <a:ext cx="3425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76760" y="134928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5840" y="1349280"/>
              <a:ext cx="3427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76760" y="1368360"/>
              <a:ext cx="1440" cy="11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13360" y="256536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22520" y="2565360"/>
              <a:ext cx="49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58200" y="256536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87880" y="2565360"/>
              <a:ext cx="49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31920" y="2496960"/>
              <a:ext cx="214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94080" y="249696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13160" y="2496960"/>
              <a:ext cx="1244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76760" y="249696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95840" y="2496960"/>
              <a:ext cx="2144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59440" y="2496960"/>
              <a:ext cx="1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78520" y="2496960"/>
              <a:ext cx="1244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94080" y="2517840"/>
              <a:ext cx="1908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76760" y="2517840"/>
              <a:ext cx="144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9440" y="2517840"/>
              <a:ext cx="1908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2280" y="2927520"/>
              <a:ext cx="138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31920" y="2836800"/>
              <a:ext cx="214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94080" y="283680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13160" y="2836800"/>
              <a:ext cx="1244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76760" y="283680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95840" y="2836800"/>
              <a:ext cx="2144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9440" y="2836800"/>
              <a:ext cx="1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8520" y="2836800"/>
              <a:ext cx="1244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94080" y="280368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76760" y="280368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9440" y="280368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14800" y="3195720"/>
              <a:ext cx="175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22520" y="319572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24280" y="319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94080" y="312912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76760" y="312912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59440" y="312912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14080" y="357840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57120" y="3508200"/>
              <a:ext cx="138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94080" y="345456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76760" y="345456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59440" y="345456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13000" y="389880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22520" y="389880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24280" y="3846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59640" y="3833640"/>
              <a:ext cx="175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90400" y="3833640"/>
              <a:ext cx="76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it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33800" y="3833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49000" y="3833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88240" y="41133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39120" y="4113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94080" y="3780000"/>
              <a:ext cx="190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76760" y="3780000"/>
              <a:ext cx="1440" cy="51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59440" y="3780000"/>
              <a:ext cx="190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13000" y="4368960"/>
              <a:ext cx="140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lose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22160" y="436896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16520" y="4368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30640" y="436896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45120" y="4368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57840" y="44388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35600" y="44388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94080" y="436896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76760" y="431640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59440" y="431640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8240" y="470700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89640" y="47070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94080" y="464184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676760" y="464184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9440" y="464184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58920" y="508968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88240" y="50324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45480" y="50324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94080" y="496728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76760" y="496728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59440" y="496728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22520" y="53578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79760" y="53578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58200" y="5392800"/>
              <a:ext cx="156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88240" y="539280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88920" y="5357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94080" y="529272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76760" y="529272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59440" y="529272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57840" y="5740560"/>
              <a:ext cx="140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lose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87880" y="57592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80440" y="5759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96360" y="575928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09760" y="5759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31920" y="6032520"/>
              <a:ext cx="2143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94080" y="5618160"/>
              <a:ext cx="190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94080" y="60325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13160" y="6032520"/>
              <a:ext cx="1244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76760" y="5618160"/>
              <a:ext cx="144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76760" y="60325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95840" y="6032520"/>
              <a:ext cx="2144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59440" y="5618160"/>
              <a:ext cx="190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59440" y="6032520"/>
              <a:ext cx="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78520" y="6032520"/>
              <a:ext cx="1244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10120" y="450360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62400" y="450360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15040" y="450360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806400" y="2427120"/>
            <a:ext cx="8170920" cy="2087640"/>
            <a:chOff x="806400" y="2427120"/>
            <a:chExt cx="8170920" cy="2087640"/>
          </a:xfrm>
        </p:grpSpPr>
        <p:sp>
          <p:nvSpPr>
            <p:cNvPr id="675" name=""/>
            <p:cNvSpPr/>
            <p:nvPr/>
          </p:nvSpPr>
          <p:spPr>
            <a:xfrm>
              <a:off x="834120" y="251136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41280" y="2511360"/>
              <a:ext cx="155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reques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33520" y="25113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84280" y="25113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89120" y="280980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12760" y="280980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4120" y="313668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30280" y="321768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90560" y="321768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13120" y="321768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30280" y="368136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90560" y="36813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12760" y="36813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31360" y="41432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90200" y="4143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12760" y="4143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6400" y="2427120"/>
              <a:ext cx="81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6400" y="3106440"/>
              <a:ext cx="81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6400" y="4514760"/>
              <a:ext cx="81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81480" y="2439720"/>
              <a:ext cx="0" cy="207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e of locks in strict two-phase lock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27040" y="1725480"/>
            <a:ext cx="8653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en an operation accesses an object within a transa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is not already locked, it is locked and the operation proc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 conflicting lock set by another transaction, the transaction must wait until it is unlo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 non-conflicting lock set by another transaction, the lock is shared and the operation proc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lready been locked in the same transaction, the lock will be promoted if necessary and the operation proceeds. (Where promotion is prevented by a conflicting lock, rule (b) is use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en a transaction is committed or aborted, the server unlocks all objects it locked for the trans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27040" y="5205240"/>
            <a:ext cx="86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7</a:t>
            </a: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Lock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4120" y="1217520"/>
            <a:ext cx="8138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Loc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Object object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object being protected by the 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Vector holders;   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TIDs of current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LockType lockType;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current ty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ynchronized void acquire(TransID trans,   LockType aLockType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another transaction holds the lock in conflicing mode*/)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a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 InterruptedException e){/*...*/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f(holders.isEmpty()) { // no TIDs  hold 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olders.addElement(tran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ckType  = aLockTyp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else 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another transaction holds the lock, share it*/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) ){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 this transaction not a holder*/)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holders.addElement(tran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else i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 this transaction is a holder but needs a more exclusive lock*/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ckType.promo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13400" y="58960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inues on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90560" y="1884240"/>
            <a:ext cx="7782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ynchronized void release(TransID trans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olders.removeElement(trans);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/ remove this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set locktype to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tifyAl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of 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ccoun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357200"/>
            <a:ext cx="551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eposit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posit amount in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ithdraw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draw amount from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etBalance() -&gt;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the balance of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tBalance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the balance of the account to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0320" y="3741840"/>
            <a:ext cx="630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237200"/>
            <a:ext cx="551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reate(name) -&gt;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a new account with a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okUp(name) -&gt; accou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a reference to the account with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ranchTotal() -&gt;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the total of all the balances at th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0320" y="3914640"/>
            <a:ext cx="55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of the Branch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3800" y="6062760"/>
            <a:ext cx="623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1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LockManag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24040" y="1339920"/>
            <a:ext cx="692784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class LockManag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rivate Hashtable theLock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 void setLock(Object object, TransID trans,  LockType lockTyp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ck found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ynchronized(this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/ find the lock associated with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/ if there isn’t one, create it and add to the hash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undLock.acquire(trans, lockTyp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synchronize this one because we want to remove all ent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synchronized void unLock(TransID tran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umeration e = theLocks.element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hile(e.hasMoreElements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ck aLock = (Lock)(e.nextElemen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/* trans is a holder of this lock*/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) aLock.release(tran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adlock with write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092400" y="232236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215120" y="232236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92400" y="267804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15120" y="267804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92400" y="5307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680000" y="5307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15120" y="5307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820800" y="2050920"/>
            <a:ext cx="8221680" cy="3411720"/>
            <a:chOff x="820800" y="2050920"/>
            <a:chExt cx="8221680" cy="3411720"/>
          </a:xfrm>
        </p:grpSpPr>
        <p:sp>
          <p:nvSpPr>
            <p:cNvPr id="714" name=""/>
            <p:cNvSpPr/>
            <p:nvPr/>
          </p:nvSpPr>
          <p:spPr>
            <a:xfrm>
              <a:off x="1903680" y="205416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54040" y="20541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15400" y="205416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66120" y="20541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31720" y="222876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20800" y="2050920"/>
              <a:ext cx="40989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43520" y="2050920"/>
              <a:ext cx="14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67280" y="2050920"/>
              <a:ext cx="40752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43520" y="2075040"/>
              <a:ext cx="1440" cy="379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6520" y="2513160"/>
              <a:ext cx="1151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91200" y="2513160"/>
              <a:ext cx="614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67800" y="2513160"/>
              <a:ext cx="1151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13920" y="2513160"/>
              <a:ext cx="614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52200" y="25830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800" y="2478240"/>
              <a:ext cx="25113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55920" y="247824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79680" y="247824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43520" y="247824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67280" y="2478240"/>
              <a:ext cx="2487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78640" y="247824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02400" y="247824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55920" y="250020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43520" y="2500200"/>
              <a:ext cx="1440" cy="308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78640" y="250020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6160" y="3009960"/>
              <a:ext cx="1480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deposit(100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89760" y="2938680"/>
              <a:ext cx="1032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write lock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57160" y="29386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0800" y="2832120"/>
              <a:ext cx="25113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55920" y="283212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79680" y="283212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43520" y="283212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67280" y="2832120"/>
              <a:ext cx="2487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78640" y="283212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02400" y="283212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55920" y="285588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943520" y="2855880"/>
              <a:ext cx="1440" cy="379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78640" y="285588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67440" y="3411720"/>
              <a:ext cx="139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b.deposit(20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12480" y="3341880"/>
              <a:ext cx="1032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write lock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80240" y="33418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55920" y="3259080"/>
              <a:ext cx="23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43520" y="3259080"/>
              <a:ext cx="1440" cy="378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78640" y="3259080"/>
              <a:ext cx="23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46880" y="3814920"/>
              <a:ext cx="161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b.withdraw(10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5920" y="366084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943520" y="3660840"/>
              <a:ext cx="1440" cy="379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78640" y="366084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390480" y="4146480"/>
              <a:ext cx="912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waits for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14960" y="41464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81640" y="4146480"/>
              <a:ext cx="17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68160" y="4146480"/>
              <a:ext cx="1693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200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512840" y="4146480"/>
              <a:ext cx="973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waits for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508960" y="4146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650440" y="4146480"/>
              <a:ext cx="17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55920" y="406404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43520" y="4064040"/>
              <a:ext cx="1440" cy="379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78640" y="406404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90120" y="4549680"/>
              <a:ext cx="77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96880" y="45496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12840" y="4549680"/>
              <a:ext cx="77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318160" y="45496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55920" y="4467240"/>
              <a:ext cx="2376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943520" y="4467240"/>
              <a:ext cx="1440" cy="306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78640" y="4467240"/>
              <a:ext cx="2376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55920" y="479736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43520" y="4797360"/>
              <a:ext cx="1440" cy="308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478640" y="479736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0800" y="5461200"/>
              <a:ext cx="25113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55920" y="512928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55920" y="546120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79680" y="546120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43520" y="5129280"/>
              <a:ext cx="1440" cy="307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43520" y="54612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67280" y="5461200"/>
              <a:ext cx="2487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478640" y="512928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78640" y="546120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02400" y="546120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006560" y="4216320"/>
              <a:ext cx="382320" cy="77760"/>
              <a:chOff x="1006560" y="4216320"/>
              <a:chExt cx="382320" cy="77760"/>
            </a:xfrm>
          </p:grpSpPr>
          <p:sp>
            <p:nvSpPr>
              <p:cNvPr id="792" name=""/>
              <p:cNvSpPr/>
              <p:nvPr/>
            </p:nvSpPr>
            <p:spPr>
              <a:xfrm>
                <a:off x="1006560" y="4216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158840" y="4216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311120" y="4216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1006560" y="4846680"/>
              <a:ext cx="382320" cy="77760"/>
              <a:chOff x="1006560" y="4846680"/>
              <a:chExt cx="382320" cy="77760"/>
            </a:xfrm>
          </p:grpSpPr>
          <p:sp>
            <p:nvSpPr>
              <p:cNvPr id="796" name=""/>
              <p:cNvSpPr/>
              <p:nvPr/>
            </p:nvSpPr>
            <p:spPr>
              <a:xfrm>
                <a:off x="100656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15884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31112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1006560" y="5143680"/>
              <a:ext cx="382320" cy="77760"/>
              <a:chOff x="1006560" y="5143680"/>
              <a:chExt cx="382320" cy="77760"/>
            </a:xfrm>
          </p:grpSpPr>
          <p:sp>
            <p:nvSpPr>
              <p:cNvPr id="800" name=""/>
              <p:cNvSpPr/>
              <p:nvPr/>
            </p:nvSpPr>
            <p:spPr>
              <a:xfrm>
                <a:off x="100656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15884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1112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5154480" y="4602240"/>
              <a:ext cx="382320" cy="77760"/>
              <a:chOff x="5154480" y="4602240"/>
              <a:chExt cx="382320" cy="77760"/>
            </a:xfrm>
          </p:grpSpPr>
          <p:sp>
            <p:nvSpPr>
              <p:cNvPr id="804" name=""/>
              <p:cNvSpPr/>
              <p:nvPr/>
            </p:nvSpPr>
            <p:spPr>
              <a:xfrm>
                <a:off x="5154480" y="460224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306760" y="460224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59040" y="460224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154480" y="4846680"/>
              <a:ext cx="382320" cy="77760"/>
              <a:chOff x="5154480" y="4846680"/>
              <a:chExt cx="382320" cy="77760"/>
            </a:xfrm>
          </p:grpSpPr>
          <p:sp>
            <p:nvSpPr>
              <p:cNvPr id="808" name=""/>
              <p:cNvSpPr/>
              <p:nvPr/>
            </p:nvSpPr>
            <p:spPr>
              <a:xfrm>
                <a:off x="515448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30676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45904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154480" y="5143680"/>
              <a:ext cx="382320" cy="77760"/>
              <a:chOff x="5154480" y="5143680"/>
              <a:chExt cx="382320" cy="77760"/>
            </a:xfrm>
          </p:grpSpPr>
          <p:sp>
            <p:nvSpPr>
              <p:cNvPr id="812" name=""/>
              <p:cNvSpPr/>
              <p:nvPr/>
            </p:nvSpPr>
            <p:spPr>
              <a:xfrm>
                <a:off x="515448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0676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45904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wait-for graph for Figure 12.1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069560" y="2340000"/>
            <a:ext cx="8213400" cy="2620800"/>
            <a:chOff x="1069560" y="2340000"/>
            <a:chExt cx="8213400" cy="2620800"/>
          </a:xfrm>
        </p:grpSpPr>
        <p:sp>
          <p:nvSpPr>
            <p:cNvPr id="817" name=""/>
            <p:cNvSpPr/>
            <p:nvPr/>
          </p:nvSpPr>
          <p:spPr>
            <a:xfrm>
              <a:off x="6778800" y="42433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65920" y="29034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15000" y="3467160"/>
              <a:ext cx="424800" cy="42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18" y="21390"/>
                  </a:moveTo>
                  <a:arcTo wR="10800" hR="10800" stAng="4721404" swAng="23766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18" y="21390"/>
                  </a:moveTo>
                  <a:arcTo wR="10800" hR="10800" stAng="4721404" swAng="2376641"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36640" y="2644560"/>
              <a:ext cx="3290400" cy="20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9" y="12475"/>
                  </a:moveTo>
                  <a:arcTo wR="10800" hR="10800" stAng="535307" swAng="4868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9" y="12475"/>
                  </a:moveTo>
                  <a:arcTo wR="10800" hR="10800" stAng="535307" swAng="4868017"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520160" y="436572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73960" y="246708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239320" y="444816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9560" y="3040200"/>
              <a:ext cx="426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292" y="295"/>
                  </a:moveTo>
                  <a:arcTo wR="10800" hR="10800" stAng="-6205757" swAng="2392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8292" y="295"/>
                  </a:moveTo>
                  <a:arcTo wR="10800" hR="10800" stAng="-6205757" swAng="2392449"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81600" y="2430360"/>
              <a:ext cx="2132640" cy="164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7" y="8550"/>
                  </a:moveTo>
                  <a:arcTo wR="10800" hR="10800" stAng="-10078381" swAng="10071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37" y="8550"/>
                  </a:moveTo>
                  <a:arcTo wR="10800" hR="10800" stAng="-10078381" swAng="10071752"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40640" y="3436560"/>
              <a:ext cx="457920" cy="42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20" y="21325"/>
                  </a:moveTo>
                  <a:arcTo wR="10800" hR="10800" stAng="4623113" swAng="23986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20" y="21325"/>
                  </a:moveTo>
                  <a:arcTo wR="10800" hR="10800" stAng="4623113" swAng="2398682"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11120" y="2887560"/>
              <a:ext cx="207360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28" y="13210"/>
                  </a:moveTo>
                  <a:arcTo wR="10800" hR="10800" stAng="773492" swAng="10026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28" y="13210"/>
                  </a:moveTo>
                  <a:arcTo wR="10800" hR="10800" stAng="773492" swAng="10026508"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98720" y="325440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98720" y="3254400"/>
              <a:ext cx="487080" cy="48744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30120" y="33210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83680" y="325440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83680" y="3254400"/>
              <a:ext cx="487440" cy="48744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550000" y="3351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39920" y="3254400"/>
              <a:ext cx="48924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39920" y="3254400"/>
              <a:ext cx="519120" cy="457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03360" y="3321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091120" y="328464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91120" y="3284640"/>
              <a:ext cx="487440" cy="48744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54200" y="3381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42320" y="2460600"/>
              <a:ext cx="30456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58"/>
                  </a:moveTo>
                  <a:lnTo>
                    <a:pt x="173" y="96"/>
                  </a:lnTo>
                  <a:lnTo>
                    <a:pt x="0" y="39"/>
                  </a:lnTo>
                  <a:lnTo>
                    <a:pt x="192" y="0"/>
                  </a:lnTo>
                  <a:lnTo>
                    <a:pt x="192" y="5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46880" y="2552760"/>
              <a:ext cx="1219320" cy="731880"/>
            </a:xfrm>
            <a:custGeom>
              <a:avLst/>
              <a:gdLst/>
              <a:ahLst/>
              <a:rect l="l" t="t" r="r" b="b"/>
              <a:pathLst>
                <a:path w="768" h="461">
                  <a:moveTo>
                    <a:pt x="0" y="0"/>
                  </a:moveTo>
                  <a:lnTo>
                    <a:pt x="307" y="38"/>
                  </a:lnTo>
                  <a:lnTo>
                    <a:pt x="557" y="154"/>
                  </a:lnTo>
                  <a:lnTo>
                    <a:pt x="710" y="288"/>
                  </a:lnTo>
                  <a:lnTo>
                    <a:pt x="768" y="461"/>
                  </a:ln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277840" y="246708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62720" y="4626000"/>
              <a:ext cx="274680" cy="182520"/>
            </a:xfrm>
            <a:custGeom>
              <a:avLst/>
              <a:gdLst/>
              <a:ahLst/>
              <a:rect l="l" t="t" r="r" b="b"/>
              <a:pathLst>
                <a:path w="173" h="115">
                  <a:moveTo>
                    <a:pt x="0" y="57"/>
                  </a:moveTo>
                  <a:lnTo>
                    <a:pt x="0" y="0"/>
                  </a:lnTo>
                  <a:lnTo>
                    <a:pt x="173" y="76"/>
                  </a:lnTo>
                  <a:lnTo>
                    <a:pt x="0" y="11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35560" y="3772080"/>
              <a:ext cx="1127160" cy="944280"/>
            </a:xfrm>
            <a:custGeom>
              <a:avLst/>
              <a:gdLst/>
              <a:ahLst/>
              <a:rect l="l" t="t" r="r" b="b"/>
              <a:pathLst>
                <a:path w="710" h="595">
                  <a:moveTo>
                    <a:pt x="710" y="595"/>
                  </a:moveTo>
                  <a:lnTo>
                    <a:pt x="422" y="518"/>
                  </a:lnTo>
                  <a:lnTo>
                    <a:pt x="192" y="384"/>
                  </a:lnTo>
                  <a:lnTo>
                    <a:pt x="38" y="211"/>
                  </a:lnTo>
                  <a:lnTo>
                    <a:pt x="0" y="0"/>
                  </a:ln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35560" y="2949480"/>
              <a:ext cx="182520" cy="2732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57" y="19"/>
                  </a:moveTo>
                  <a:lnTo>
                    <a:pt x="115" y="38"/>
                  </a:lnTo>
                  <a:lnTo>
                    <a:pt x="0" y="172"/>
                  </a:lnTo>
                  <a:lnTo>
                    <a:pt x="19" y="0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57960" y="2552760"/>
              <a:ext cx="1309680" cy="396720"/>
            </a:xfrm>
            <a:custGeom>
              <a:avLst/>
              <a:gdLst/>
              <a:ahLst/>
              <a:rect l="l" t="t" r="r" b="b"/>
              <a:pathLst>
                <a:path w="825" h="250">
                  <a:moveTo>
                    <a:pt x="0" y="250"/>
                  </a:moveTo>
                  <a:lnTo>
                    <a:pt x="115" y="134"/>
                  </a:lnTo>
                  <a:lnTo>
                    <a:pt x="307" y="58"/>
                  </a:lnTo>
                  <a:lnTo>
                    <a:pt x="825" y="0"/>
                  </a:ln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97520" y="4533840"/>
              <a:ext cx="244800" cy="397080"/>
            </a:xfrm>
            <a:custGeom>
              <a:avLst/>
              <a:gdLst>
                <a:gd name="textAreaLeft" fmla="*/ 35640 w 244800"/>
                <a:gd name="textAreaRight" fmla="*/ 209160 w 244800"/>
                <a:gd name="textAreaTop" fmla="*/ 35640 h 397080"/>
                <a:gd name="textAreaBottom" fmla="*/ 361440 h 397080"/>
              </a:gdLst>
              <a:ahLst/>
              <a:rect l="textAreaLeft" t="textAreaTop" r="textAreaRight" b="textAreaBottom"/>
              <a:pathLst>
                <a:path w="21600" h="35017">
                  <a:moveTo>
                    <a:pt x="10800" y="0"/>
                  </a:moveTo>
                  <a:arcTo wR="10800" hR="10800" stAng="16200000" swAng="-5400000"/>
                  <a:lnTo>
                    <a:pt x="0" y="24217"/>
                  </a:lnTo>
                  <a:arcTo wR="10800" hR="10800" stAng="10800000" swAng="-5400000"/>
                  <a:lnTo>
                    <a:pt x="10800" y="3501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97520" y="4533840"/>
              <a:ext cx="274680" cy="42696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6960"/>
                <a:gd name="textAreaBottom" fmla="*/ 389160 h 426960"/>
              </a:gdLst>
              <a:ahLst/>
              <a:rect l="textAreaLeft" t="textAreaTop" r="textAreaRight" b="textAreaBottom"/>
              <a:pathLst>
                <a:path w="21600" h="33559">
                  <a:moveTo>
                    <a:pt x="10176" y="0"/>
                  </a:moveTo>
                  <a:arcTo wR="10176" hR="10176" stAng="16200000" swAng="-5400000"/>
                  <a:lnTo>
                    <a:pt x="0" y="23383"/>
                  </a:lnTo>
                  <a:arcTo wR="10176" hR="10176" stAng="10800000" swAng="-5400000"/>
                  <a:lnTo>
                    <a:pt x="11424" y="33559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97520" y="4533840"/>
              <a:ext cx="244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97520" y="4533840"/>
              <a:ext cx="274680" cy="24444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97520" y="4533840"/>
              <a:ext cx="274680" cy="42696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6960"/>
                <a:gd name="textAreaBottom" fmla="*/ 389160 h 426960"/>
              </a:gdLst>
              <a:ahLst/>
              <a:rect l="textAreaLeft" t="textAreaTop" r="textAreaRight" b="textAreaBottom"/>
              <a:pathLst>
                <a:path w="21600" h="33559">
                  <a:moveTo>
                    <a:pt x="10176" y="0"/>
                  </a:moveTo>
                  <a:arcTo wR="10176" hR="10176" stAng="16200000" swAng="-5400000"/>
                  <a:lnTo>
                    <a:pt x="0" y="23383"/>
                  </a:lnTo>
                  <a:arcTo wR="10176" hR="10176" stAng="10800000" swAng="-5400000"/>
                  <a:lnTo>
                    <a:pt x="11424" y="33559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97520" y="4746600"/>
              <a:ext cx="2448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797520" y="2340000"/>
              <a:ext cx="244800" cy="395280"/>
            </a:xfrm>
            <a:custGeom>
              <a:avLst/>
              <a:gdLst>
                <a:gd name="textAreaLeft" fmla="*/ 35640 w 244800"/>
                <a:gd name="textAreaRight" fmla="*/ 209160 w 244800"/>
                <a:gd name="textAreaTop" fmla="*/ 35640 h 395280"/>
                <a:gd name="textAreaBottom" fmla="*/ 359640 h 395280"/>
              </a:gdLst>
              <a:ahLst/>
              <a:rect l="textAreaLeft" t="textAreaTop" r="textAreaRight" b="textAreaBottom"/>
              <a:pathLst>
                <a:path w="21600" h="34858">
                  <a:moveTo>
                    <a:pt x="10800" y="0"/>
                  </a:moveTo>
                  <a:arcTo wR="10800" hR="10800" stAng="16200000" swAng="-5400000"/>
                  <a:lnTo>
                    <a:pt x="0" y="24058"/>
                  </a:lnTo>
                  <a:arcTo wR="10800" hR="10800" stAng="10800000" swAng="-5400000"/>
                  <a:lnTo>
                    <a:pt x="10800" y="3485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97520" y="2340000"/>
              <a:ext cx="274680" cy="42552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5520"/>
                <a:gd name="textAreaBottom" fmla="*/ 387720 h 425520"/>
              </a:gdLst>
              <a:ahLst/>
              <a:rect l="textAreaLeft" t="textAreaTop" r="textAreaRight" b="textAreaBottom"/>
              <a:pathLst>
                <a:path w="21600" h="33446">
                  <a:moveTo>
                    <a:pt x="10176" y="0"/>
                  </a:moveTo>
                  <a:arcTo wR="10176" hR="10176" stAng="16200000" swAng="-5400000"/>
                  <a:lnTo>
                    <a:pt x="0" y="23270"/>
                  </a:lnTo>
                  <a:arcTo wR="10176" hR="10176" stAng="10800000" swAng="-5400000"/>
                  <a:lnTo>
                    <a:pt x="11424" y="33446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97520" y="2340000"/>
              <a:ext cx="244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97520" y="2340000"/>
              <a:ext cx="274680" cy="24300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97520" y="2340000"/>
              <a:ext cx="274680" cy="42552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5520"/>
                <a:gd name="textAreaBottom" fmla="*/ 387720 h 425520"/>
              </a:gdLst>
              <a:ahLst/>
              <a:rect l="textAreaLeft" t="textAreaTop" r="textAreaRight" b="textAreaBottom"/>
              <a:pathLst>
                <a:path w="21600" h="33446">
                  <a:moveTo>
                    <a:pt x="10176" y="0"/>
                  </a:moveTo>
                  <a:arcTo wR="10176" hR="10176" stAng="16200000" swAng="-5400000"/>
                  <a:lnTo>
                    <a:pt x="0" y="23270"/>
                  </a:lnTo>
                  <a:arcTo wR="10176" hR="10176" stAng="10800000" swAng="-5400000"/>
                  <a:lnTo>
                    <a:pt x="11424" y="33446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97520" y="2552760"/>
              <a:ext cx="2448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ycle in a wait-for grap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23840" y="1921320"/>
            <a:ext cx="8693280" cy="2933280"/>
            <a:chOff x="123840" y="1921320"/>
            <a:chExt cx="8693280" cy="2933280"/>
          </a:xfrm>
        </p:grpSpPr>
        <p:sp>
          <p:nvSpPr>
            <p:cNvPr id="861" name=""/>
            <p:cNvSpPr/>
            <p:nvPr/>
          </p:nvSpPr>
          <p:spPr>
            <a:xfrm>
              <a:off x="4062240" y="1957320"/>
              <a:ext cx="51912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62240" y="1957320"/>
              <a:ext cx="557280" cy="52092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29280" y="20368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84400" y="4335480"/>
              <a:ext cx="48276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4335480"/>
              <a:ext cx="520920" cy="51912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51080" y="44132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87440" y="2924280"/>
              <a:ext cx="52056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387440" y="2924280"/>
              <a:ext cx="557280" cy="51912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88680" y="3002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01960" y="1921320"/>
              <a:ext cx="482760" cy="48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" y="14451"/>
                  </a:moveTo>
                  <a:arcTo wR="10800" hR="10800" stAng="9614639" swAng="2370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" y="14451"/>
                  </a:moveTo>
                  <a:arcTo wR="10800" hR="10800" stAng="9614639" swAng="2370721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58960" y="2180880"/>
              <a:ext cx="4568760" cy="155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16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161001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25960" y="3183120"/>
              <a:ext cx="481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646" y="20452"/>
                  </a:moveTo>
                  <a:arcTo wR="10800" hR="10800" stAng="3800457" swAng="23953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646" y="20452"/>
                  </a:moveTo>
                  <a:arcTo wR="10800" hR="10800" stAng="3800457" swAng="2395332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84800" y="2217960"/>
              <a:ext cx="259920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921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921930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22040" y="2813040"/>
              <a:ext cx="481680" cy="48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6" y="2863"/>
                  </a:moveTo>
                  <a:arcTo wR="10800" hR="10800" stAng="-7961804" swAng="2403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6" y="2863"/>
                  </a:moveTo>
                  <a:arcTo wR="10800" hR="10800" stAng="-7961804" swAng="2403079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2560" y="2181240"/>
              <a:ext cx="7836120" cy="17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6" y="0"/>
                  </a:moveTo>
                  <a:arcTo wR="10800" hR="10800" stAng="-5401391" swAng="47356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6" y="0"/>
                  </a:moveTo>
                  <a:arcTo wR="10800" hR="10800" stAng="-5401391" swAng="4735645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59880" y="4037040"/>
              <a:ext cx="482040" cy="4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4" y="7149"/>
                  </a:moveTo>
                  <a:arcTo wR="10800" hR="10800" stAng="-1185360" swAng="2370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4" y="7149"/>
                  </a:moveTo>
                  <a:arcTo wR="10800" hR="10800" stAng="-1185360" swAng="2370720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70800" y="2329560"/>
              <a:ext cx="2822040" cy="19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981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981057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45040" y="4335480"/>
              <a:ext cx="482040" cy="4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4" y="7149"/>
                  </a:moveTo>
                  <a:arcTo wR="10800" hR="10800" stAng="-1185360" swAng="2370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4" y="7149"/>
                  </a:moveTo>
                  <a:arcTo wR="10800" hR="10800" stAng="-1185360" swAng="2370720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23840" y="3593520"/>
              <a:ext cx="6797160" cy="10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6"/>
                  </a:moveTo>
                  <a:arcTo wR="10800" hR="10800" stAng="-10896" swAng="5291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6"/>
                  </a:moveTo>
                  <a:arcTo wR="10800" hR="10800" stAng="-10896" swAng="5291556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99240" y="4000680"/>
              <a:ext cx="5191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99240" y="4000680"/>
              <a:ext cx="557280" cy="51876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59840" y="3071880"/>
              <a:ext cx="5191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59840" y="3071880"/>
              <a:ext cx="557280" cy="52056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other wait-for grap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39560" y="1252440"/>
            <a:ext cx="8477280" cy="4550760"/>
            <a:chOff x="439560" y="1252440"/>
            <a:chExt cx="8477280" cy="4550760"/>
          </a:xfrm>
        </p:grpSpPr>
        <p:sp>
          <p:nvSpPr>
            <p:cNvPr id="886" name=""/>
            <p:cNvSpPr/>
            <p:nvPr/>
          </p:nvSpPr>
          <p:spPr>
            <a:xfrm>
              <a:off x="3711960" y="3240000"/>
              <a:ext cx="3345840" cy="130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5" y="2"/>
                  </a:moveTo>
                  <a:arcTo wR="10800" hR="10800" stAng="-5462085" swAng="46258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5" y="2"/>
                  </a:moveTo>
                  <a:arcTo wR="10800" hR="10800" stAng="-5462085" swAng="462581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78320" y="2532960"/>
              <a:ext cx="1701720" cy="175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19" y="21435"/>
                  </a:moveTo>
                  <a:arcTo wR="10800" hR="10800" stAng="6001822" swAng="4798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19" y="21435"/>
                  </a:moveTo>
                  <a:arcTo wR="10800" hR="10800" stAng="6001822" swAng="479817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31280" y="31748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86560" y="2193840"/>
              <a:ext cx="392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86560" y="2193840"/>
              <a:ext cx="4190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03200" y="2266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26400" y="3867120"/>
              <a:ext cx="419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26400" y="3867120"/>
              <a:ext cx="4442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6824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41960" y="4129200"/>
              <a:ext cx="39204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41960" y="4129200"/>
              <a:ext cx="4190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59320" y="4176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04040" y="2169000"/>
              <a:ext cx="364320" cy="36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" y="14468"/>
                  </a:moveTo>
                  <a:arcTo wR="10800" hR="10800" stAng="9608687" swAng="2382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" y="14468"/>
                  </a:moveTo>
                  <a:arcTo wR="10800" hR="10800" stAng="9608687" swAng="2382627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54560" y="2351880"/>
              <a:ext cx="2692440" cy="14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270" swAng="509220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270" swAng="509220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59440" y="4103640"/>
              <a:ext cx="364320" cy="36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8" y="13054"/>
                  </a:moveTo>
                  <a:arcTo wR="10800" hR="10800" stAng="10077363" swAng="2363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8" y="13054"/>
                  </a:moveTo>
                  <a:arcTo wR="10800" hR="10800" stAng="10077363" swAng="2363947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00840" y="3686040"/>
              <a:ext cx="365040" cy="36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81" y="2858"/>
                  </a:moveTo>
                  <a:arcTo wR="10800" hR="10800" stAng="-7959888" swAng="2379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81" y="2858"/>
                  </a:moveTo>
                  <a:arcTo wR="10800" hR="10800" stAng="-7959888" swAng="2379912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3400" y="23893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787360" y="30081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25280" y="37497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39560" y="300528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9560" y="3005280"/>
              <a:ext cx="419400" cy="417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6560" y="3078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95600" y="3344760"/>
              <a:ext cx="419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5600" y="3344760"/>
              <a:ext cx="4442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37440" y="34178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58880" y="229860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58880" y="2298600"/>
              <a:ext cx="417600" cy="417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74440" y="2371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01920" y="2299680"/>
              <a:ext cx="364320" cy="3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7" y="14371"/>
                  </a:moveTo>
                  <a:arcTo wR="10800" hR="10800" stAng="9641591" swAng="2372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07" y="14371"/>
                  </a:moveTo>
                  <a:arcTo wR="10800" hR="10800" stAng="9641591" swAng="2372949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2440" y="2480400"/>
              <a:ext cx="3898440" cy="1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17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1759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81240" y="4129200"/>
              <a:ext cx="39204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81240" y="4129200"/>
              <a:ext cx="4190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145680" y="420228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84920" y="235116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84920" y="2351160"/>
              <a:ext cx="419400" cy="417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774920" y="24512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283240" y="3672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867440" y="2324520"/>
              <a:ext cx="3934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1" y="10009"/>
                  </a:moveTo>
                  <a:arcTo wR="10800" hR="10800" stAng="-252108" swAng="2381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1" y="10009"/>
                  </a:moveTo>
                  <a:arcTo wR="10800" hR="10800" stAng="-252108" swAng="2381154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527600" y="2534760"/>
              <a:ext cx="1073160" cy="20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80" y="364"/>
                  </a:moveTo>
                  <a:arcTo wR="10800" hR="10800" stAng="-4504893" swAng="44994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80" y="364"/>
                  </a:moveTo>
                  <a:arcTo wR="10800" hR="10800" stAng="-4504893" swAng="449947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49360" y="309564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393400" y="3711600"/>
              <a:ext cx="389880" cy="39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52" y="21423"/>
                  </a:moveTo>
                  <a:arcTo wR="10800" hR="10800" stAng="6023331" swAng="2413401"/>
                  <a:lnTo>
                    <a:pt x="10800" y="10800"/>
                  </a:lnTo>
                  <a:close/>
                </a:path>
                <a:path fill="none" w="21600" h="21600">
                  <a:moveTo>
                    <a:pt x="8852" y="21423"/>
                  </a:moveTo>
                  <a:arcTo wR="10800" hR="10800" stAng="6023331" swAng="2413401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19080" y="3396960"/>
              <a:ext cx="4029840" cy="10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32" y="13594"/>
                  </a:moveTo>
                  <a:arcTo wR="10800" hR="10800" stAng="899695" swAng="4500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32" y="13594"/>
                  </a:moveTo>
                  <a:arcTo wR="10800" hR="10800" stAng="899695" swAng="450030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64360" y="43243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42440" y="3187440"/>
              <a:ext cx="36324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13" y="19771"/>
                  </a:moveTo>
                  <a:arcTo wR="10800" hR="10800" stAng="3370170" swAng="2423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13" y="19771"/>
                  </a:moveTo>
                  <a:arcTo wR="10800" hR="10800" stAng="3370170" swAng="2423592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1720" y="2324160"/>
              <a:ext cx="4893480" cy="20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9814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98147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42120" y="2273400"/>
              <a:ext cx="366840" cy="36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77" y="14414"/>
                  </a:moveTo>
                  <a:arcTo wR="10800" hR="10800" stAng="1173119" swAng="2442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77" y="14414"/>
                  </a:moveTo>
                  <a:arcTo wR="10800" hR="10800" stAng="1173119" swAng="2442188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58880" y="2455200"/>
              <a:ext cx="758520" cy="334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57" y="568"/>
                  </a:moveTo>
                  <a:arcTo wR="10800" hR="10800" stAng="-4279814" swAng="42798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57" y="568"/>
                  </a:moveTo>
                  <a:arcTo wR="10800" hR="10800" stAng="-4279814" swAng="427981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899800" y="3947400"/>
              <a:ext cx="391320" cy="36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" y="7132"/>
                  </a:moveTo>
                  <a:arcTo wR="10800" hR="10800" stAng="-9608851" swAng="2393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" y="7132"/>
                  </a:moveTo>
                  <a:arcTo wR="10800" hR="10800" stAng="-9608851" swAng="2393912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41760" y="1252440"/>
              <a:ext cx="707040" cy="28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94" y="20944"/>
                  </a:moveTo>
                  <a:arcTo wR="10800" hR="10800" stAng="6604235" swAng="4195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7094" y="20944"/>
                  </a:moveTo>
                  <a:arcTo wR="10800" hR="10800" stAng="6604235" swAng="419576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07960" y="3397320"/>
              <a:ext cx="235080" cy="129960"/>
            </a:xfrm>
            <a:custGeom>
              <a:avLst/>
              <a:gdLst/>
              <a:ahLst/>
              <a:rect l="l" t="t" r="r" b="b"/>
              <a:pathLst>
                <a:path w="148" h="82">
                  <a:moveTo>
                    <a:pt x="16" y="33"/>
                  </a:moveTo>
                  <a:lnTo>
                    <a:pt x="33" y="0"/>
                  </a:lnTo>
                  <a:lnTo>
                    <a:pt x="148" y="82"/>
                  </a:lnTo>
                  <a:lnTo>
                    <a:pt x="0" y="6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58960" y="3265560"/>
              <a:ext cx="549000" cy="1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65400" y="3762360"/>
              <a:ext cx="209520" cy="157320"/>
            </a:xfrm>
            <a:custGeom>
              <a:avLst/>
              <a:gdLst/>
              <a:ahLst/>
              <a:rect l="l" t="t" r="r" b="b"/>
              <a:pathLst>
                <a:path w="132" h="99">
                  <a:moveTo>
                    <a:pt x="116" y="66"/>
                  </a:moveTo>
                  <a:lnTo>
                    <a:pt x="99" y="99"/>
                  </a:lnTo>
                  <a:lnTo>
                    <a:pt x="0" y="0"/>
                  </a:lnTo>
                  <a:lnTo>
                    <a:pt x="132" y="33"/>
                  </a:lnTo>
                  <a:lnTo>
                    <a:pt x="116" y="6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374920" y="3867120"/>
              <a:ext cx="70632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48360" y="3057480"/>
              <a:ext cx="234720" cy="339840"/>
            </a:xfrm>
            <a:custGeom>
              <a:avLst/>
              <a:gdLst>
                <a:gd name="textAreaLeft" fmla="*/ 32400 w 234720"/>
                <a:gd name="textAreaRight" fmla="*/ 202320 w 234720"/>
                <a:gd name="textAreaTop" fmla="*/ 32400 h 339840"/>
                <a:gd name="textAreaBottom" fmla="*/ 307440 h 339840"/>
              </a:gdLst>
              <a:ahLst/>
              <a:rect l="textAreaLeft" t="textAreaTop" r="textAreaRight" b="textAreaBottom"/>
              <a:pathLst>
                <a:path w="21600" h="31259">
                  <a:moveTo>
                    <a:pt x="10216" y="0"/>
                  </a:moveTo>
                  <a:arcTo wR="10216" hR="10216" stAng="16200000" swAng="-5400000"/>
                  <a:lnTo>
                    <a:pt x="0" y="21043"/>
                  </a:lnTo>
                  <a:arcTo wR="10216" hR="10216" stAng="10800000" swAng="-5400000"/>
                  <a:lnTo>
                    <a:pt x="11384" y="31259"/>
                  </a:lnTo>
                  <a:arcTo wR="10216" hR="10216" stAng="5400000" swAng="-5400000"/>
                  <a:lnTo>
                    <a:pt x="21600" y="10216"/>
                  </a:lnTo>
                  <a:arcTo wR="10216" hR="10216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48360" y="3057480"/>
              <a:ext cx="261720" cy="365040"/>
            </a:xfrm>
            <a:custGeom>
              <a:avLst/>
              <a:gdLst>
                <a:gd name="textAreaLeft" fmla="*/ 32400 w 261720"/>
                <a:gd name="textAreaRight" fmla="*/ 229320 w 261720"/>
                <a:gd name="textAreaTop" fmla="*/ 32400 h 365040"/>
                <a:gd name="textAreaBottom" fmla="*/ 332640 h 365040"/>
              </a:gdLst>
              <a:ahLst/>
              <a:rect l="textAreaLeft" t="textAreaTop" r="textAreaRight" b="textAreaBottom"/>
              <a:pathLst>
                <a:path w="21600" h="30115">
                  <a:moveTo>
                    <a:pt x="9164" y="0"/>
                  </a:moveTo>
                  <a:arcTo wR="9164" hR="9164" stAng="16200000" swAng="-5400000"/>
                  <a:lnTo>
                    <a:pt x="0" y="20951"/>
                  </a:lnTo>
                  <a:arcTo wR="9164" hR="9164" stAng="10800000" swAng="-5400000"/>
                  <a:lnTo>
                    <a:pt x="12436" y="3011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48360" y="3057480"/>
              <a:ext cx="2347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48360" y="3057480"/>
              <a:ext cx="261720" cy="20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48360" y="3057480"/>
              <a:ext cx="261720" cy="365040"/>
            </a:xfrm>
            <a:custGeom>
              <a:avLst/>
              <a:gdLst>
                <a:gd name="textAreaLeft" fmla="*/ 32400 w 261720"/>
                <a:gd name="textAreaRight" fmla="*/ 229320 w 261720"/>
                <a:gd name="textAreaTop" fmla="*/ 32400 h 365040"/>
                <a:gd name="textAreaBottom" fmla="*/ 332640 h 365040"/>
              </a:gdLst>
              <a:ahLst/>
              <a:rect l="textAreaLeft" t="textAreaTop" r="textAreaRight" b="textAreaBottom"/>
              <a:pathLst>
                <a:path w="21600" h="30115">
                  <a:moveTo>
                    <a:pt x="9164" y="0"/>
                  </a:moveTo>
                  <a:arcTo wR="9164" hR="9164" stAng="16200000" swAng="-5400000"/>
                  <a:lnTo>
                    <a:pt x="0" y="20951"/>
                  </a:lnTo>
                  <a:arcTo wR="9164" hR="9164" stAng="10800000" swAng="-5400000"/>
                  <a:lnTo>
                    <a:pt x="12436" y="3011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48360" y="3240000"/>
              <a:ext cx="234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469360" y="3554280"/>
              <a:ext cx="209520" cy="339840"/>
            </a:xfrm>
            <a:custGeom>
              <a:avLst/>
              <a:gdLst>
                <a:gd name="textAreaLeft" fmla="*/ 30600 w 209520"/>
                <a:gd name="textAreaRight" fmla="*/ 178920 w 209520"/>
                <a:gd name="textAreaTop" fmla="*/ 30600 h 339840"/>
                <a:gd name="textAreaBottom" fmla="*/ 309240 h 339840"/>
              </a:gdLst>
              <a:ahLst/>
              <a:rect l="textAreaLeft" t="textAreaTop" r="textAreaRight" b="textAreaBottom"/>
              <a:pathLst>
                <a:path w="21600" h="35012">
                  <a:moveTo>
                    <a:pt x="10800" y="0"/>
                  </a:moveTo>
                  <a:arcTo wR="10800" hR="10800" stAng="16200000" swAng="-5400000"/>
                  <a:lnTo>
                    <a:pt x="0" y="24212"/>
                  </a:lnTo>
                  <a:arcTo wR="10800" hR="10800" stAng="10800000" swAng="-5400000"/>
                  <a:lnTo>
                    <a:pt x="10800" y="3501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69360" y="3554280"/>
              <a:ext cx="236520" cy="36540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65400"/>
                <a:gd name="textAreaBottom" fmla="*/ 333000 h 365400"/>
              </a:gdLst>
              <a:ahLst/>
              <a:rect l="textAreaLeft" t="textAreaTop" r="textAreaRight" b="textAreaBottom"/>
              <a:pathLst>
                <a:path w="21600" h="33352">
                  <a:moveTo>
                    <a:pt x="10148" y="0"/>
                  </a:moveTo>
                  <a:arcTo wR="10148" hR="10148" stAng="16200000" swAng="-5400000"/>
                  <a:lnTo>
                    <a:pt x="0" y="23204"/>
                  </a:lnTo>
                  <a:arcTo wR="10148" hR="10148" stAng="10800000" swAng="-5400000"/>
                  <a:lnTo>
                    <a:pt x="11452" y="3335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69360" y="3554280"/>
              <a:ext cx="2095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69360" y="3554280"/>
              <a:ext cx="236520" cy="20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69360" y="3554280"/>
              <a:ext cx="236520" cy="36540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65400"/>
                <a:gd name="textAreaBottom" fmla="*/ 333000 h 365400"/>
              </a:gdLst>
              <a:ahLst/>
              <a:rect l="textAreaLeft" t="textAreaTop" r="textAreaRight" b="textAreaBottom"/>
              <a:pathLst>
                <a:path w="21600" h="33352">
                  <a:moveTo>
                    <a:pt x="10148" y="0"/>
                  </a:moveTo>
                  <a:arcTo wR="10148" hR="10148" stAng="16200000" swAng="-5400000"/>
                  <a:lnTo>
                    <a:pt x="0" y="23204"/>
                  </a:lnTo>
                  <a:arcTo wR="10148" hR="10148" stAng="10800000" swAng="-5400000"/>
                  <a:lnTo>
                    <a:pt x="11452" y="3335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69360" y="3736800"/>
              <a:ext cx="209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solution of the deadlock in Figure 15.1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05240" y="19591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37440" y="19591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05240" y="22892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237440" y="22892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0524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87980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23744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047600" y="1539720"/>
            <a:ext cx="7642440" cy="4203720"/>
            <a:chOff x="1047600" y="1539720"/>
            <a:chExt cx="7642440" cy="4203720"/>
          </a:xfrm>
        </p:grpSpPr>
        <p:sp>
          <p:nvSpPr>
            <p:cNvPr id="960" name=""/>
            <p:cNvSpPr/>
            <p:nvPr/>
          </p:nvSpPr>
          <p:spPr>
            <a:xfrm>
              <a:off x="2075760" y="1571760"/>
              <a:ext cx="139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ansaction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082920" y="157176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ansaction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96920" y="17035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3520" y="17035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47600" y="1539720"/>
              <a:ext cx="38102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79800" y="153972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902120" y="1539720"/>
              <a:ext cx="37879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879800" y="156204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56760" y="1963800"/>
              <a:ext cx="109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6920" y="196380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87520" y="1963800"/>
              <a:ext cx="109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69120" y="196380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863840" y="20336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929000" y="20336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047600" y="1936800"/>
              <a:ext cx="2335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05240" y="193680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27560" y="1936800"/>
              <a:ext cx="1430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79800" y="193680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02120" y="1936800"/>
              <a:ext cx="2313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37440" y="193680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59760" y="1936800"/>
              <a:ext cx="1430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405240" y="1959120"/>
              <a:ext cx="2232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79800" y="1959120"/>
              <a:ext cx="1800" cy="285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237440" y="1959120"/>
              <a:ext cx="2232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256400" y="2430360"/>
              <a:ext cx="140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.deposit(10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434760" y="239868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 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27280" y="23637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47600" y="2266920"/>
              <a:ext cx="2335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405240" y="226692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27560" y="2266920"/>
              <a:ext cx="1430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879800" y="226692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2266920"/>
              <a:ext cx="2313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37440" y="226692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59760" y="2266920"/>
              <a:ext cx="1430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05240" y="2289240"/>
              <a:ext cx="2232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79800" y="2289240"/>
              <a:ext cx="1800" cy="350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37440" y="2289240"/>
              <a:ext cx="2232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086800" y="2805120"/>
              <a:ext cx="132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.deposit(2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67320" y="277344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 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259480" y="27385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05240" y="266220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879800" y="266220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37440" y="266220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56400" y="317988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.withdraw(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05240" y="3036960"/>
              <a:ext cx="22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79800" y="303696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37440" y="3036960"/>
              <a:ext cx="22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35480" y="3514680"/>
              <a:ext cx="86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its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95880" y="3487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449600" y="3540240"/>
              <a:ext cx="165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087160" y="3483000"/>
              <a:ext cx="160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.withdraw(20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68040" y="3510000"/>
              <a:ext cx="117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its for T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405240" y="341136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879800" y="341136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37440" y="341136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35480" y="3860640"/>
              <a:ext cx="73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85720" y="3860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67680" y="3860640"/>
              <a:ext cx="73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18280" y="3860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405240" y="3786120"/>
              <a:ext cx="2232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79800" y="3786120"/>
              <a:ext cx="1800" cy="285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37440" y="3786120"/>
              <a:ext cx="2232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65600" y="4170240"/>
              <a:ext cx="354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timeout elap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77480" y="447840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27400" y="4478400"/>
              <a:ext cx="108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’s lock 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577600" y="4478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06120" y="4478400"/>
              <a:ext cx="194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comes vulnerabl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59640" y="4786200"/>
              <a:ext cx="259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943080" y="4786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73040" y="4786200"/>
              <a:ext cx="78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abort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79800" y="4094280"/>
              <a:ext cx="1800" cy="90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37440" y="4094280"/>
              <a:ext cx="22320" cy="9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87160" y="5091120"/>
              <a:ext cx="160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.withdraw(20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67320" y="5118120"/>
              <a:ext cx="1070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 lock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48400" y="51181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05240" y="501804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79800" y="501804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37440" y="501804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68040" y="5398920"/>
              <a:ext cx="68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951320" y="5398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082360" y="546876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214840" y="5398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047600" y="5700600"/>
              <a:ext cx="2335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05240" y="5392800"/>
              <a:ext cx="2232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05240" y="570060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427560" y="5700600"/>
              <a:ext cx="14302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879800" y="5392800"/>
              <a:ext cx="1800" cy="285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879800" y="570060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902120" y="5700600"/>
              <a:ext cx="23130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37440" y="5392800"/>
              <a:ext cx="2232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37440" y="570060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259760" y="5700600"/>
              <a:ext cx="14302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1316160" y="3613320"/>
              <a:ext cx="382320" cy="77760"/>
              <a:chOff x="1316160" y="3613320"/>
              <a:chExt cx="382320" cy="77760"/>
            </a:xfrm>
          </p:grpSpPr>
          <p:sp>
            <p:nvSpPr>
              <p:cNvPr id="1053" name=""/>
              <p:cNvSpPr/>
              <p:nvPr/>
            </p:nvSpPr>
            <p:spPr>
              <a:xfrm>
                <a:off x="1316160" y="3613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68440" y="3613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620720" y="3613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5121360" y="4081320"/>
              <a:ext cx="382320" cy="77760"/>
              <a:chOff x="5121360" y="4081320"/>
              <a:chExt cx="382320" cy="77760"/>
            </a:xfrm>
          </p:grpSpPr>
          <p:sp>
            <p:nvSpPr>
              <p:cNvPr id="1057" name=""/>
              <p:cNvSpPr/>
              <p:nvPr/>
            </p:nvSpPr>
            <p:spPr>
              <a:xfrm>
                <a:off x="5121360" y="4081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273640" y="4081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25920" y="4081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5121360" y="4478400"/>
              <a:ext cx="382320" cy="77760"/>
              <a:chOff x="5121360" y="4478400"/>
              <a:chExt cx="382320" cy="77760"/>
            </a:xfrm>
          </p:grpSpPr>
          <p:sp>
            <p:nvSpPr>
              <p:cNvPr id="1061" name=""/>
              <p:cNvSpPr/>
              <p:nvPr/>
            </p:nvSpPr>
            <p:spPr>
              <a:xfrm>
                <a:off x="5121360" y="447840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273640" y="447840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25920" y="447840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 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ommi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locks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71400" y="2681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03680" y="2681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53040" y="268128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66200" y="2681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0368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648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53040" y="4417920"/>
            <a:ext cx="255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66620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671400" y="2103480"/>
            <a:ext cx="8607600" cy="2604960"/>
            <a:chOff x="671400" y="2103480"/>
            <a:chExt cx="8607600" cy="2604960"/>
          </a:xfrm>
        </p:grpSpPr>
        <p:sp>
          <p:nvSpPr>
            <p:cNvPr id="1074" name=""/>
            <p:cNvSpPr/>
            <p:nvPr/>
          </p:nvSpPr>
          <p:spPr>
            <a:xfrm>
              <a:off x="1821600" y="213984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67040" y="2139840"/>
              <a:ext cx="140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to be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866560" y="2139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71400" y="2103480"/>
              <a:ext cx="3719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59160" y="210348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441680" y="2103480"/>
              <a:ext cx="48373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259160" y="2128680"/>
              <a:ext cx="1800" cy="520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451040" y="26845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89040" y="2684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01120" y="268452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446320" y="2684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59160" y="2673360"/>
              <a:ext cx="1800" cy="272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53040" y="2673360"/>
              <a:ext cx="2556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666200" y="2673360"/>
              <a:ext cx="2520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3800" y="299556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036600" y="299556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45248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8940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3680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1132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70220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04960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12412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5160" y="2971800"/>
              <a:ext cx="20844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03680" y="29718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828880" y="2971800"/>
              <a:ext cx="1562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259160" y="29718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41680" y="2971800"/>
              <a:ext cx="1587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53040" y="29718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078600" y="2971800"/>
              <a:ext cx="1562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66200" y="29718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91400" y="2971800"/>
              <a:ext cx="1587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03680" y="2995560"/>
              <a:ext cx="2520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59160" y="2995560"/>
              <a:ext cx="1800" cy="4222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53040" y="2995560"/>
              <a:ext cx="2556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66200" y="2995560"/>
              <a:ext cx="2520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036600" y="344340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452480" y="3443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89400" y="3443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01840" y="34434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147880" y="34434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222760" y="34434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803680" y="3303720"/>
              <a:ext cx="252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59160" y="344340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53040" y="3443400"/>
              <a:ext cx="2556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66200" y="3443400"/>
              <a:ext cx="252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38040" y="388440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452480" y="3884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9040" y="38844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701480" y="39495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925760" y="3949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03680" y="372420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59160" y="3863880"/>
              <a:ext cx="1800" cy="39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53040" y="3863880"/>
              <a:ext cx="255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666200" y="386388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036960" y="430524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452120" y="4305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89040" y="4305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701480" y="43718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925760" y="43718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1400" y="4707000"/>
              <a:ext cx="2108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03680" y="414648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828880" y="4707000"/>
              <a:ext cx="1562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59160" y="4286160"/>
              <a:ext cx="1800" cy="39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59160" y="47070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41680" y="4707000"/>
              <a:ext cx="1587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053040" y="4286160"/>
              <a:ext cx="2556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053040" y="47070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78600" y="4707000"/>
              <a:ext cx="1562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666200" y="428616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666200" y="47070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691400" y="4707000"/>
              <a:ext cx="1587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hierarchy for the banking examp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708120" y="2236680"/>
            <a:ext cx="8348400" cy="1803600"/>
            <a:chOff x="708120" y="2236680"/>
            <a:chExt cx="8348400" cy="1803600"/>
          </a:xfrm>
        </p:grpSpPr>
        <p:sp>
          <p:nvSpPr>
            <p:cNvPr id="1148" name=""/>
            <p:cNvSpPr/>
            <p:nvPr/>
          </p:nvSpPr>
          <p:spPr>
            <a:xfrm>
              <a:off x="4175280" y="2236680"/>
              <a:ext cx="72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32360" y="376560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72080" y="2592360"/>
              <a:ext cx="0" cy="961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08120" y="3554280"/>
              <a:ext cx="83484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9160" y="3736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73040" y="3736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995480" y="3736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0800" y="3554280"/>
              <a:ext cx="144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444680" y="3554280"/>
              <a:ext cx="144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66760" y="3554280"/>
              <a:ext cx="180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hierarchy for a dia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547200" y="2687760"/>
            <a:ext cx="8733240" cy="1810440"/>
            <a:chOff x="547200" y="2687760"/>
            <a:chExt cx="8733240" cy="1810440"/>
          </a:xfrm>
        </p:grpSpPr>
        <p:sp>
          <p:nvSpPr>
            <p:cNvPr id="1160" name=""/>
            <p:cNvSpPr/>
            <p:nvPr/>
          </p:nvSpPr>
          <p:spPr>
            <a:xfrm>
              <a:off x="2415600" y="268776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7240" y="3255840"/>
              <a:ext cx="5229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07648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072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7200" y="3495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58160" y="349560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e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18360" y="3495600"/>
              <a:ext cx="107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dne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59000" y="349560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ur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47800" y="34956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i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2772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1348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14880" y="3255840"/>
              <a:ext cx="1440" cy="101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2733840" y="2927520"/>
              <a:ext cx="1440" cy="328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838080" y="4089240"/>
              <a:ext cx="80359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6524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61800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43036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6880" y="425448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:00–10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4520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696160" y="4089240"/>
              <a:ext cx="1800" cy="51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3256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0680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49520" y="3849840"/>
              <a:ext cx="86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 sl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4527720" y="3735000"/>
              <a:ext cx="1440" cy="353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604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:00–11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988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:00–12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624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:00–13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260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:00–14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896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:00–15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5184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:00–16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 table for hierarchic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571680" y="2208240"/>
            <a:ext cx="8556480" cy="2687760"/>
            <a:chOff x="571680" y="2208240"/>
            <a:chExt cx="8556480" cy="2687760"/>
          </a:xfrm>
        </p:grpSpPr>
        <p:sp>
          <p:nvSpPr>
            <p:cNvPr id="1202" name=""/>
            <p:cNvSpPr/>
            <p:nvPr/>
          </p:nvSpPr>
          <p:spPr>
            <a:xfrm>
              <a:off x="1651680" y="224460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27320" y="2209680"/>
              <a:ext cx="140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to be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1680" y="2208240"/>
              <a:ext cx="387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70240" y="220824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92800" y="2208240"/>
              <a:ext cx="4635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70240" y="2233440"/>
              <a:ext cx="1800" cy="246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501800" y="247968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662080" y="247968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794640" y="2479680"/>
              <a:ext cx="63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954920" y="247968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170240" y="2503440"/>
              <a:ext cx="1800" cy="2476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626080" y="2503440"/>
              <a:ext cx="2556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761160" y="2503440"/>
              <a:ext cx="2376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920000" y="2503440"/>
              <a:ext cx="2376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4080" y="281160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973240" y="285444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0324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6208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79716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95636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95440" y="2774880"/>
              <a:ext cx="21207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741760" y="277488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765520" y="2774880"/>
              <a:ext cx="1677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70240" y="277488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92800" y="2774880"/>
              <a:ext cx="11095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626080" y="277488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51640" y="2774880"/>
              <a:ext cx="1083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761160" y="277488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84920" y="2774880"/>
              <a:ext cx="1109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20000" y="277488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43760" y="2774880"/>
              <a:ext cx="1184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741760" y="280044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70240" y="2800440"/>
              <a:ext cx="1800" cy="393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6080" y="2800440"/>
              <a:ext cx="255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61160" y="280044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0000" y="280044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973240" y="327348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03240" y="33037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61720" y="330372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797160" y="33037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956000" y="330372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41760" y="321948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70240" y="3219480"/>
              <a:ext cx="1800" cy="39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26080" y="3219480"/>
              <a:ext cx="255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61160" y="321948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20000" y="321948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974320" y="3692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0288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6172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9680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95600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41760" y="363852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70240" y="3638520"/>
              <a:ext cx="1800" cy="39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26080" y="3638520"/>
              <a:ext cx="255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761160" y="363852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20000" y="363852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72160" y="4111560"/>
              <a:ext cx="63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0324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661720" y="41418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9716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95636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41760" y="405756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170240" y="4057560"/>
              <a:ext cx="1800" cy="39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26080" y="4057560"/>
              <a:ext cx="255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761160" y="405756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20000" y="405756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973240" y="453060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502880" y="45608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661720" y="45608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797160" y="4560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956360" y="4560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1680" y="4894200"/>
              <a:ext cx="21445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41760" y="48942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65520" y="4894200"/>
              <a:ext cx="1677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170240" y="4476600"/>
              <a:ext cx="1800" cy="39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170240" y="489420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92800" y="4894200"/>
              <a:ext cx="11095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626080" y="4476600"/>
              <a:ext cx="2556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26080" y="48942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651640" y="4894200"/>
              <a:ext cx="1083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61160" y="4476600"/>
              <a:ext cx="2376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761160" y="48942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84920" y="4894200"/>
              <a:ext cx="1109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920000" y="4476600"/>
              <a:ext cx="2376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920000" y="489420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943760" y="4894200"/>
              <a:ext cx="1184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lient’s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8280" y="2557440"/>
            <a:ext cx="232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action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.withdraw(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.deposit(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withdraw(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.deposit(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able on page 49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Serializability of transaction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with respect to transaction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50520" y="211608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49840" y="211608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75920" y="2116080"/>
            <a:ext cx="46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9434520" y="2103480"/>
            <a:ext cx="25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40800" y="253368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6240" y="253368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175560" y="25336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45160" y="253368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060080" y="2533680"/>
            <a:ext cx="340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read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648560" y="253368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434520" y="2436840"/>
            <a:ext cx="2556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39720" y="296244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047320" y="296244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175560" y="29624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46240" y="296244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110840" y="2962440"/>
            <a:ext cx="340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read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697880" y="296244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9434520" y="2909880"/>
            <a:ext cx="2556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40800" y="342756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047320" y="342756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175560" y="342756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845160" y="342756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60080" y="3427560"/>
            <a:ext cx="34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write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619760" y="3427560"/>
            <a:ext cx="272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945560" y="3427560"/>
            <a:ext cx="43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63680" y="380052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36560" y="3800520"/>
            <a:ext cx="56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925880" y="3800520"/>
            <a:ext cx="286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write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804440" y="380052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9434520" y="3382920"/>
            <a:ext cx="2556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1280" y="2077920"/>
            <a:ext cx="879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1280" y="2455920"/>
            <a:ext cx="879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11280" y="4152960"/>
            <a:ext cx="879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943360" y="2075040"/>
            <a:ext cx="0" cy="20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idation of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605880" y="1960560"/>
            <a:ext cx="8444520" cy="3304440"/>
            <a:chOff x="605880" y="1960560"/>
            <a:chExt cx="8444520" cy="3304440"/>
          </a:xfrm>
        </p:grpSpPr>
        <p:sp>
          <p:nvSpPr>
            <p:cNvPr id="1345" name=""/>
            <p:cNvSpPr/>
            <p:nvPr/>
          </p:nvSpPr>
          <p:spPr>
            <a:xfrm>
              <a:off x="8291520" y="3925800"/>
              <a:ext cx="490680" cy="155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291520" y="3925800"/>
              <a:ext cx="512640" cy="1778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3800" y="3457440"/>
              <a:ext cx="512640" cy="155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3800" y="3457440"/>
              <a:ext cx="534960" cy="1778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46720" y="3457440"/>
              <a:ext cx="1049400" cy="15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46720" y="3457440"/>
              <a:ext cx="1071720" cy="1778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26000" y="2989440"/>
              <a:ext cx="513000" cy="155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26000" y="2989440"/>
              <a:ext cx="534960" cy="1774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21240" y="2989440"/>
              <a:ext cx="1004760" cy="155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21240" y="2989440"/>
              <a:ext cx="1027080" cy="1774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18080" y="2475000"/>
              <a:ext cx="357120" cy="156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18080" y="2475000"/>
              <a:ext cx="379080" cy="179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82960" y="2475000"/>
              <a:ext cx="735120" cy="156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982960" y="2475000"/>
              <a:ext cx="757080" cy="1792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561440" y="2552760"/>
              <a:ext cx="138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rlier 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61080" y="275436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07760" y="196056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2320" y="1960560"/>
              <a:ext cx="78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71720" y="196056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930240" y="2452680"/>
              <a:ext cx="205272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930240" y="2452680"/>
              <a:ext cx="207504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138480" y="2208240"/>
              <a:ext cx="1440" cy="266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41640" y="2208240"/>
              <a:ext cx="1800" cy="266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800360" y="2185920"/>
              <a:ext cx="1440" cy="289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05880" y="24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13520" y="2532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191200" y="4951440"/>
              <a:ext cx="383688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191200" y="4951440"/>
              <a:ext cx="3859200" cy="17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47960" y="4572000"/>
              <a:ext cx="6180120" cy="1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47960" y="4572000"/>
              <a:ext cx="6202440" cy="17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321080" y="3925800"/>
              <a:ext cx="31892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21080" y="3925800"/>
              <a:ext cx="321156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265880" y="3925800"/>
              <a:ext cx="1025640" cy="155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265880" y="3925800"/>
              <a:ext cx="1047960" cy="1778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52440" y="3924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60800" y="39909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048680" y="376704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047960" y="3990960"/>
              <a:ext cx="120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ing valid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78040" y="2989440"/>
              <a:ext cx="274320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78040" y="2989440"/>
              <a:ext cx="276552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521240" y="2989440"/>
              <a:ext cx="102708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26000" y="2989440"/>
              <a:ext cx="53496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431360" y="2919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539000" y="300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25640" y="3457440"/>
              <a:ext cx="2521080" cy="1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25640" y="3457440"/>
              <a:ext cx="254340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396120" y="3457440"/>
              <a:ext cx="51264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57000" y="3387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566080" y="347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581200" y="3992400"/>
              <a:ext cx="11368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968400" y="4829040"/>
              <a:ext cx="92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ter 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968400" y="505152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057640" y="2565360"/>
              <a:ext cx="243072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6797520" y="2832120"/>
              <a:ext cx="690840" cy="179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7578720" y="2965320"/>
              <a:ext cx="266760" cy="379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1933560" y="4818240"/>
              <a:ext cx="468360" cy="1555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2066760" y="5041440"/>
              <a:ext cx="2387880" cy="88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208960" y="454824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77320" y="4664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529880" y="492768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98240" y="504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82960" y="2452680"/>
              <a:ext cx="75708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718080" y="2452680"/>
              <a:ext cx="37908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24400" y="3457440"/>
              <a:ext cx="107172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265880" y="3925800"/>
              <a:ext cx="104796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291520" y="3925800"/>
              <a:ext cx="51264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499-50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idation of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6400" y="1461960"/>
            <a:ext cx="8812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validation of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lean vali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(i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artT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1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inishT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(read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sects write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vali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ward validation of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lean vali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(i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tive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tiv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(write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sects read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vali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 conflicts for timestamp order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203480" y="17985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994040" y="17985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782800" y="179856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03480" y="20700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994040" y="20700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782800" y="20700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203480" y="43257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994040" y="43257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782800" y="432576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571680" y="2201760"/>
            <a:ext cx="8917200" cy="2581200"/>
            <a:chOff x="571680" y="2201760"/>
            <a:chExt cx="8917200" cy="2581200"/>
          </a:xfrm>
        </p:grpSpPr>
        <p:sp>
          <p:nvSpPr>
            <p:cNvPr id="1444" name=""/>
            <p:cNvSpPr/>
            <p:nvPr/>
          </p:nvSpPr>
          <p:spPr>
            <a:xfrm>
              <a:off x="603720" y="2217600"/>
              <a:ext cx="42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34280" y="2287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80360" y="2287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44160" y="22176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036520" y="221760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71680" y="2201760"/>
              <a:ext cx="612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206360" y="22017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28680" y="220176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01960" y="22017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023920" y="220176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793960" y="22017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16280" y="2201760"/>
              <a:ext cx="65120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206360" y="2276280"/>
              <a:ext cx="2232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001960" y="2276280"/>
              <a:ext cx="2196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793960" y="2276280"/>
              <a:ext cx="2232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4080" y="255744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081800" y="2557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75960" y="255744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744280" y="25574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987280" y="25574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942720" y="2557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36640" y="255744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695640" y="255744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26200" y="255744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900560" y="255744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01440" y="255744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90640" y="280656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534920" y="280656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771440" y="2806560"/>
              <a:ext cx="418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≥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maximum read timestamp of the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443800" y="28065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1680" y="2525760"/>
              <a:ext cx="612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206360" y="25257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228680" y="252576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01960" y="25257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023920" y="252576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06840" y="25257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728800" y="2525760"/>
              <a:ext cx="65120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49400" y="254772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844640" y="254772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04080" y="330192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08180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87560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44280" y="33019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87280" y="33019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4272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36640" y="330192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60000" y="33019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38960" y="330192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16560" y="33019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316000" y="330192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805600" y="25621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006840" y="25621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146880" y="25621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646360" y="355104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77960" y="35510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15920" y="3551040"/>
              <a:ext cx="329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write timestamp of the commit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961040" y="3551040"/>
              <a:ext cx="61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49400" y="3292200"/>
              <a:ext cx="22320" cy="7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44640" y="3292200"/>
              <a:ext cx="22320" cy="7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06840" y="3292200"/>
              <a:ext cx="21960" cy="7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04080" y="404640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82520" y="40464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75600" y="404640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744280" y="40464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87280" y="404640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943080" y="40464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68600" y="404640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09240" y="404640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289640" y="40464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065800" y="404640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880" y="404640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698560" y="429552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30160" y="42955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65960" y="4295520"/>
              <a:ext cx="403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write timestamp of the committed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962840" y="429552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71680" y="4781520"/>
              <a:ext cx="612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06360" y="403704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206360" y="478152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28680" y="478152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01960" y="4037040"/>
              <a:ext cx="2196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01960" y="478152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23920" y="478152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793960" y="403704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793960" y="478152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816280" y="4781520"/>
              <a:ext cx="65120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884800" y="403704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086040" y="40370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226080" y="40370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961120" y="327636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162360" y="32763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302400" y="327636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rite operations and timestam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479600" y="1425600"/>
            <a:ext cx="126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796240" y="1425600"/>
            <a:ext cx="12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479600" y="1616040"/>
            <a:ext cx="12600" cy="12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796240" y="1616040"/>
            <a:ext cx="12960" cy="12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796240" y="2873520"/>
            <a:ext cx="129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479600" y="2886120"/>
            <a:ext cx="1260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796240" y="2886120"/>
            <a:ext cx="1296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479600" y="4816440"/>
            <a:ext cx="1260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796240" y="4816440"/>
            <a:ext cx="1296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580320" y="1311120"/>
            <a:ext cx="9236160" cy="4738680"/>
            <a:chOff x="580320" y="1311120"/>
            <a:chExt cx="9236160" cy="4738680"/>
          </a:xfrm>
        </p:grpSpPr>
        <p:sp>
          <p:nvSpPr>
            <p:cNvPr id="1556" name=""/>
            <p:cNvSpPr/>
            <p:nvPr/>
          </p:nvSpPr>
          <p:spPr>
            <a:xfrm>
              <a:off x="580320" y="133020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02200" y="13302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759200" y="1311120"/>
              <a:ext cx="44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06920" y="1311120"/>
              <a:ext cx="1440" cy="154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240" y="395460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89440" y="39546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594080" y="3954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5160" y="3833640"/>
              <a:ext cx="472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35640" y="38336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151600" y="3833640"/>
              <a:ext cx="2232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05120" y="2860560"/>
              <a:ext cx="1800" cy="283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950240" y="3780000"/>
              <a:ext cx="135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produc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y transaction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769240" y="4911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795880" y="489888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703280" y="4268880"/>
              <a:ext cx="211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with write timestamp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383600" y="1311120"/>
              <a:ext cx="0" cy="469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196520" y="131112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003680" y="13302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432680" y="13111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78480" y="3954600"/>
              <a:ext cx="44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015440" y="395460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51600" y="39546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118000" y="4562640"/>
              <a:ext cx="1254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20920" y="1800360"/>
              <a:ext cx="457200" cy="57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420920" y="1800360"/>
              <a:ext cx="479160" cy="5936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442880" y="1824120"/>
              <a:ext cx="411480" cy="547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42880" y="1824120"/>
              <a:ext cx="435240" cy="5698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168360" y="316872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2800" y="208440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44760" y="270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05200" y="3238560"/>
              <a:ext cx="137880" cy="92160"/>
            </a:xfrm>
            <a:custGeom>
              <a:avLst/>
              <a:gdLst/>
              <a:ahLst/>
              <a:rect l="l" t="t" r="r" b="b"/>
              <a:pathLst>
                <a:path w="87" h="58">
                  <a:moveTo>
                    <a:pt x="0" y="29"/>
                  </a:moveTo>
                  <a:lnTo>
                    <a:pt x="0" y="0"/>
                  </a:lnTo>
                  <a:lnTo>
                    <a:pt x="87" y="29"/>
                  </a:lnTo>
                  <a:lnTo>
                    <a:pt x="0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26920" y="3284640"/>
              <a:ext cx="2055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20920" y="2508120"/>
              <a:ext cx="457200" cy="57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420920" y="2508120"/>
              <a:ext cx="479160" cy="5940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442880" y="2532240"/>
              <a:ext cx="411480" cy="547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442880" y="2532240"/>
              <a:ext cx="435240" cy="5698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106720" y="2508120"/>
              <a:ext cx="433440" cy="59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106720" y="2508120"/>
              <a:ext cx="457200" cy="6159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28680" y="2532240"/>
              <a:ext cx="411480" cy="54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128680" y="2532240"/>
              <a:ext cx="435240" cy="5698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590480" y="2016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701000" y="210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557000" y="2678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669320" y="27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226960" y="2678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37480" y="27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57920" y="315612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16880" y="209088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40280" y="271944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23200" y="3220920"/>
              <a:ext cx="139680" cy="92160"/>
            </a:xfrm>
            <a:custGeom>
              <a:avLst/>
              <a:gdLst/>
              <a:ahLst/>
              <a:rect l="l" t="t" r="r" b="b"/>
              <a:pathLst>
                <a:path w="88" h="58">
                  <a:moveTo>
                    <a:pt x="0" y="29"/>
                  </a:moveTo>
                  <a:lnTo>
                    <a:pt x="0" y="0"/>
                  </a:lnTo>
                  <a:lnTo>
                    <a:pt x="88" y="29"/>
                  </a:lnTo>
                  <a:lnTo>
                    <a:pt x="0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05320" y="3267000"/>
              <a:ext cx="20937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684680" y="1801800"/>
              <a:ext cx="465120" cy="58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84680" y="1801800"/>
              <a:ext cx="488880" cy="6048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707000" y="1824120"/>
              <a:ext cx="41904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707000" y="1824120"/>
              <a:ext cx="442800" cy="55872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84680" y="2498760"/>
              <a:ext cx="465120" cy="60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84680" y="2498760"/>
              <a:ext cx="488880" cy="6285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707000" y="2522520"/>
              <a:ext cx="419040" cy="5587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07000" y="2522520"/>
              <a:ext cx="442800" cy="5810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359320" y="1801800"/>
              <a:ext cx="441360" cy="60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59320" y="1801800"/>
              <a:ext cx="465120" cy="62712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81640" y="1824120"/>
              <a:ext cx="396720" cy="558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381640" y="1824120"/>
              <a:ext cx="419040" cy="5824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59320" y="2498760"/>
              <a:ext cx="441360" cy="60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359320" y="2498760"/>
              <a:ext cx="465120" cy="6285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381640" y="2546280"/>
              <a:ext cx="396720" cy="5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381640" y="2546280"/>
              <a:ext cx="419040" cy="5572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10200" y="2522520"/>
              <a:ext cx="443160" cy="58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10200" y="2522520"/>
              <a:ext cx="465120" cy="6048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033960" y="2546280"/>
              <a:ext cx="395280" cy="557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033960" y="2546280"/>
              <a:ext cx="419400" cy="5810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74880" y="20448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588640" y="21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9072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0448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10668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1900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827240" y="20448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939560" y="21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80960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92372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92120" y="582120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86160" y="467532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09920" y="528336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86120" y="585792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29"/>
                  </a:moveTo>
                  <a:lnTo>
                    <a:pt x="0" y="0"/>
                  </a:lnTo>
                  <a:lnTo>
                    <a:pt x="88" y="29"/>
                  </a:lnTo>
                  <a:lnTo>
                    <a:pt x="0" y="5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5640" y="5904000"/>
              <a:ext cx="21304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81040" y="4335480"/>
              <a:ext cx="4683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481040" y="4335480"/>
              <a:ext cx="492120" cy="631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04800" y="4359240"/>
              <a:ext cx="420840" cy="561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04800" y="4359240"/>
              <a:ext cx="444600" cy="585720"/>
            </a:xfrm>
            <a:prstGeom prst="rect">
              <a:avLst/>
            </a:prstGeom>
            <a:noFill/>
            <a:ln w="3492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481040" y="5108400"/>
              <a:ext cx="468360" cy="60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481040" y="5108400"/>
              <a:ext cx="492120" cy="6321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504800" y="5132520"/>
              <a:ext cx="420840" cy="561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504800" y="5132520"/>
              <a:ext cx="444600" cy="583920"/>
            </a:xfrm>
            <a:prstGeom prst="rect">
              <a:avLst/>
            </a:prstGeom>
            <a:noFill/>
            <a:ln w="3492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112840" y="5084640"/>
              <a:ext cx="44460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112840" y="5084640"/>
              <a:ext cx="468360" cy="631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136600" y="5108400"/>
              <a:ext cx="398520" cy="56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136600" y="5108400"/>
              <a:ext cx="420840" cy="58608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112840" y="4335480"/>
              <a:ext cx="44460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112840" y="4335480"/>
              <a:ext cx="468360" cy="631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36600" y="4359240"/>
              <a:ext cx="398520" cy="561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36600" y="4359240"/>
              <a:ext cx="420840" cy="58572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744640" y="5108400"/>
              <a:ext cx="468360" cy="60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44640" y="5108400"/>
              <a:ext cx="492120" cy="6321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68760" y="5132520"/>
              <a:ext cx="422280" cy="561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68760" y="5132520"/>
              <a:ext cx="444240" cy="58392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07760" y="4557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721520" y="46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2540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73916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193480" y="4557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307240" y="46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4280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35656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87928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99304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73160" y="576252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706360" y="436896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707800" y="45910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903120" y="470232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925440" y="530388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146640" y="5850000"/>
              <a:ext cx="133560" cy="889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0" y="28"/>
                  </a:moveTo>
                  <a:lnTo>
                    <a:pt x="0" y="0"/>
                  </a:lnTo>
                  <a:lnTo>
                    <a:pt x="84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19480" y="5894280"/>
              <a:ext cx="200520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587840" y="4402080"/>
              <a:ext cx="444600" cy="57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587840" y="4402080"/>
              <a:ext cx="468360" cy="6015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610160" y="4424400"/>
              <a:ext cx="39996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610160" y="4424400"/>
              <a:ext cx="422280" cy="557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587840" y="5159520"/>
              <a:ext cx="444600" cy="57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587840" y="5159520"/>
              <a:ext cx="468360" cy="6015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10160" y="5181480"/>
              <a:ext cx="39996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610160" y="5181480"/>
              <a:ext cx="422280" cy="557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692240" y="4591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799880" y="46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708080" y="5348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817160" y="542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637840" y="33606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482320" y="2546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720280" y="1927080"/>
              <a:ext cx="387360" cy="5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720280" y="1927080"/>
              <a:ext cx="407880" cy="54936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740800" y="1947960"/>
              <a:ext cx="345960" cy="488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740800" y="1947960"/>
              <a:ext cx="366840" cy="5079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720280" y="2762280"/>
              <a:ext cx="387360" cy="50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720280" y="2762280"/>
              <a:ext cx="407880" cy="52848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740800" y="2782800"/>
              <a:ext cx="345960" cy="466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740800" y="2782800"/>
              <a:ext cx="366840" cy="48744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826480" y="21193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926560" y="21956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815320" y="29336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915400" y="3009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869240" y="20178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Key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0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 ordering write r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90760" y="2279520"/>
            <a:ext cx="89283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≥ maximum read timestamp 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gt; write timestamp on committed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write operation on tentative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write timestamp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 /* write is too lat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ort transa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0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 ordering read r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88760" y="2193840"/>
            <a:ext cx="84664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 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gt; write timestamp on committed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e the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the maximum write timestamp ≤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ommit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peration on the vers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ntil the transaction that made vers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its or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eappl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ort transa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1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006800" y="1189080"/>
            <a:ext cx="116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576000" y="1312920"/>
            <a:ext cx="9244800" cy="4244040"/>
            <a:chOff x="576000" y="1312920"/>
            <a:chExt cx="9244800" cy="4244040"/>
          </a:xfrm>
        </p:grpSpPr>
        <p:sp>
          <p:nvSpPr>
            <p:cNvPr id="1743" name=""/>
            <p:cNvSpPr/>
            <p:nvPr/>
          </p:nvSpPr>
          <p:spPr>
            <a:xfrm>
              <a:off x="3221640" y="298944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721880" y="19828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699200" y="2254320"/>
              <a:ext cx="93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8520" y="2854440"/>
              <a:ext cx="88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895320" y="2568240"/>
              <a:ext cx="1440" cy="244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895320" y="2160360"/>
              <a:ext cx="1440" cy="244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800440" y="3086280"/>
              <a:ext cx="190440" cy="109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0" y="34"/>
                  </a:moveTo>
                  <a:lnTo>
                    <a:pt x="0" y="0"/>
                  </a:lnTo>
                  <a:lnTo>
                    <a:pt x="120" y="34"/>
                  </a:lnTo>
                  <a:lnTo>
                    <a:pt x="0" y="6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31880" y="3139920"/>
              <a:ext cx="206856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8880" y="1860480"/>
              <a:ext cx="517320" cy="70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8880" y="1860480"/>
              <a:ext cx="544320" cy="73512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85880" y="1887480"/>
              <a:ext cx="463320" cy="654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85880" y="1887480"/>
              <a:ext cx="490320" cy="681120"/>
            </a:xfrm>
            <a:prstGeom prst="rect">
              <a:avLst/>
            </a:prstGeom>
            <a:noFill/>
            <a:ln w="3960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959760" y="21193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90080" y="22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764400" y="3003480"/>
              <a:ext cx="149040" cy="9864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31"/>
                  </a:moveTo>
                  <a:lnTo>
                    <a:pt x="0" y="0"/>
                  </a:lnTo>
                  <a:lnTo>
                    <a:pt x="94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30720" y="3052800"/>
              <a:ext cx="25081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147080" y="2916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866560" y="1971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51080" y="22208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320720" y="279252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4454640" y="2481120"/>
              <a:ext cx="1440" cy="223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4454640" y="2282760"/>
              <a:ext cx="1440" cy="223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206960" y="1860480"/>
              <a:ext cx="49536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206960" y="1860480"/>
              <a:ext cx="520560" cy="669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230720" y="1886040"/>
              <a:ext cx="447480" cy="595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230720" y="1886040"/>
              <a:ext cx="471600" cy="62064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25880" y="1886040"/>
              <a:ext cx="47160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25880" y="1886040"/>
              <a:ext cx="497160" cy="669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51440" y="1909800"/>
              <a:ext cx="422280" cy="596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951440" y="1909800"/>
              <a:ext cx="446040" cy="62064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430520" y="21207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46440" y="2212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22440" y="21207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238360" y="2212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179880" y="5400720"/>
              <a:ext cx="149040" cy="74520"/>
            </a:xfrm>
            <a:custGeom>
              <a:avLst/>
              <a:gdLst/>
              <a:ahLst/>
              <a:rect l="l" t="t" r="r" b="b"/>
              <a:pathLst>
                <a:path w="94" h="47">
                  <a:moveTo>
                    <a:pt x="0" y="16"/>
                  </a:moveTo>
                  <a:lnTo>
                    <a:pt x="0" y="0"/>
                  </a:lnTo>
                  <a:lnTo>
                    <a:pt x="94" y="16"/>
                  </a:lnTo>
                  <a:lnTo>
                    <a:pt x="0" y="4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42960" y="5425920"/>
              <a:ext cx="2511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18280" y="53132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238120" y="4343400"/>
              <a:ext cx="92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d wa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381680" y="51786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587600" y="4929120"/>
              <a:ext cx="1440" cy="223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19200" y="4257720"/>
              <a:ext cx="49680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19200" y="4257720"/>
              <a:ext cx="520560" cy="6714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42960" y="4282920"/>
              <a:ext cx="447480" cy="596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42960" y="4282920"/>
              <a:ext cx="473040" cy="62100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314360" y="4257720"/>
              <a:ext cx="49680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314360" y="4257720"/>
              <a:ext cx="522360" cy="6714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39920" y="4282920"/>
              <a:ext cx="447480" cy="596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339920" y="4282920"/>
              <a:ext cx="471240" cy="6210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04600" y="4467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920520" y="4559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496880" y="4467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612800" y="4559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913800" y="525924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30520" y="4241880"/>
              <a:ext cx="126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52120" y="452916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bor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491160" y="5367240"/>
              <a:ext cx="173160" cy="11448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0" y="36"/>
                  </a:moveTo>
                  <a:lnTo>
                    <a:pt x="0" y="0"/>
                  </a:lnTo>
                  <a:lnTo>
                    <a:pt x="109" y="36"/>
                  </a:lnTo>
                  <a:lnTo>
                    <a:pt x="0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76800" y="5424480"/>
              <a:ext cx="218592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218120" y="4170240"/>
              <a:ext cx="547560" cy="74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18120" y="4170240"/>
              <a:ext cx="576000" cy="77796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248000" y="4199040"/>
              <a:ext cx="489240" cy="690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48000" y="4199040"/>
              <a:ext cx="517680" cy="720720"/>
            </a:xfrm>
            <a:prstGeom prst="rect">
              <a:avLst/>
            </a:prstGeom>
            <a:noFill/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422960" y="44146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559400" y="4519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776080" y="15559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Key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605440" y="39672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501760" y="2762280"/>
              <a:ext cx="92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794800" y="2036880"/>
              <a:ext cx="452520" cy="61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794800" y="2036880"/>
              <a:ext cx="476280" cy="6429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818560" y="2060640"/>
              <a:ext cx="404640" cy="571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818560" y="2060640"/>
              <a:ext cx="428760" cy="595080"/>
            </a:xfrm>
            <a:prstGeom prst="rect">
              <a:avLst/>
            </a:prstGeom>
            <a:noFill/>
            <a:ln w="3492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804160" y="3265560"/>
              <a:ext cx="452520" cy="61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804160" y="3265560"/>
              <a:ext cx="476280" cy="6429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827920" y="3289320"/>
              <a:ext cx="405000" cy="571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827920" y="3289320"/>
              <a:ext cx="428760" cy="5954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926200" y="2262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9042120" y="2349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927640" y="34671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9045360" y="3554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714840" y="2571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774920" y="4286160"/>
              <a:ext cx="204588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ject produc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y transaction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with write timestamp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&lt;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&lt; 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&lt; 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76000" y="1312920"/>
              <a:ext cx="1152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)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0120" y="3676680"/>
              <a:ext cx="1152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c)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137120" y="3600360"/>
              <a:ext cx="1164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d)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6" name=""/>
          <p:cNvSpPr/>
          <p:nvPr/>
        </p:nvSpPr>
        <p:spPr>
          <a:xfrm>
            <a:off x="3976560" y="1189080"/>
            <a:ext cx="0" cy="447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777080" y="1227240"/>
            <a:ext cx="0" cy="447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s in 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410440" y="1878120"/>
            <a:ext cx="28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imestamps and versions of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846440" y="2170080"/>
            <a:ext cx="16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911400" y="2170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10400" y="2170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807240" y="2170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813080" y="21700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408280" y="2552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881320" y="25527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549840" y="2552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987960" y="25527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51360" y="2552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8010360" y="25527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529320" y="2546280"/>
            <a:ext cx="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967440" y="2546280"/>
            <a:ext cx="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7780320" y="2546280"/>
            <a:ext cx="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407560" y="2766960"/>
            <a:ext cx="19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881320" y="2766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49120" y="2766960"/>
            <a:ext cx="19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87960" y="2766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550640" y="2766960"/>
            <a:ext cx="19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010360" y="2766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967440" y="2760840"/>
            <a:ext cx="14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226520" y="3011400"/>
            <a:ext cx="138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pen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967440" y="2975040"/>
            <a:ext cx="144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3225960"/>
            <a:ext cx="169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465880" y="32259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531480" y="3225960"/>
            <a:ext cx="30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291840" y="3498840"/>
            <a:ext cx="138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pen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228320" y="370692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294000" y="3986280"/>
            <a:ext cx="169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292920" y="4230720"/>
            <a:ext cx="80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ait for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227240" y="4473720"/>
            <a:ext cx="162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227240" y="468936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881680" y="468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988320" y="468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294000" y="4932360"/>
            <a:ext cx="169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293640" y="517680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292920" y="5419800"/>
            <a:ext cx="156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8010360" y="5419800"/>
            <a:ext cx="3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8" name=""/>
          <p:cNvGrpSpPr/>
          <p:nvPr/>
        </p:nvGrpSpPr>
        <p:grpSpPr>
          <a:xfrm>
            <a:off x="3316320" y="4511520"/>
            <a:ext cx="382320" cy="77760"/>
            <a:chOff x="3316320" y="4511520"/>
            <a:chExt cx="382320" cy="77760"/>
          </a:xfrm>
        </p:grpSpPr>
        <p:sp>
          <p:nvSpPr>
            <p:cNvPr id="1869" name=""/>
            <p:cNvSpPr/>
            <p:nvPr/>
          </p:nvSpPr>
          <p:spPr>
            <a:xfrm>
              <a:off x="3316320" y="45115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468600" y="45115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20880" y="45115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3316320" y="4743360"/>
            <a:ext cx="382320" cy="77760"/>
            <a:chOff x="3316320" y="4743360"/>
            <a:chExt cx="382320" cy="77760"/>
          </a:xfrm>
        </p:grpSpPr>
        <p:sp>
          <p:nvSpPr>
            <p:cNvPr id="1873" name=""/>
            <p:cNvSpPr/>
            <p:nvPr/>
          </p:nvSpPr>
          <p:spPr>
            <a:xfrm>
              <a:off x="3316320" y="474336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468600" y="474336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620880" y="474336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1244520" y="1809720"/>
            <a:ext cx="752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244520" y="2489040"/>
            <a:ext cx="752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244520" y="5694480"/>
            <a:ext cx="752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369040" y="1811160"/>
            <a:ext cx="0" cy="388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7018560" y="5156280"/>
            <a:ext cx="42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029360" y="3710160"/>
            <a:ext cx="32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859360" y="4414680"/>
            <a:ext cx="32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531480" y="4948200"/>
            <a:ext cx="34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at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 would invalidate a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788080" y="3854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920560" y="1911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026040" y="19908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235200" y="191124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rit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687200" y="1911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819680" y="19908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002560" y="191124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74280" y="1911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506760" y="19908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690360" y="191124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rit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140920" y="1911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273400" y="19908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456280" y="191124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611440" y="2424240"/>
            <a:ext cx="14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3976560" y="2241360"/>
            <a:ext cx="1128960" cy="52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5210280" y="3921120"/>
            <a:ext cx="25200" cy="27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235480" y="3868560"/>
            <a:ext cx="236520" cy="132120"/>
          </a:xfrm>
          <a:custGeom>
            <a:avLst/>
            <a:gdLst/>
            <a:ahLst/>
            <a:rect l="l" t="t" r="r" b="b"/>
            <a:pathLst>
              <a:path w="149" h="83">
                <a:moveTo>
                  <a:pt x="0" y="50"/>
                </a:moveTo>
                <a:lnTo>
                  <a:pt x="0" y="0"/>
                </a:lnTo>
                <a:lnTo>
                  <a:pt x="149" y="50"/>
                </a:lnTo>
                <a:lnTo>
                  <a:pt x="0" y="83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928880" y="3948120"/>
            <a:ext cx="3281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374920" y="2897280"/>
            <a:ext cx="5256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374920" y="2897280"/>
            <a:ext cx="550800" cy="709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401920" y="2924280"/>
            <a:ext cx="496800" cy="65556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401920" y="2924280"/>
            <a:ext cx="498600" cy="655560"/>
          </a:xfrm>
          <a:prstGeom prst="rect">
            <a:avLst/>
          </a:prstGeom>
          <a:noFill/>
          <a:ln w="381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530520" y="2924280"/>
            <a:ext cx="523800" cy="65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530520" y="2924280"/>
            <a:ext cx="550800" cy="68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556080" y="2949480"/>
            <a:ext cx="498240" cy="6303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556080" y="2949480"/>
            <a:ext cx="498240" cy="630360"/>
          </a:xfrm>
          <a:prstGeom prst="rect">
            <a:avLst/>
          </a:pr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482840" y="2924280"/>
            <a:ext cx="52524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482840" y="2924280"/>
            <a:ext cx="550800" cy="70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09840" y="2949480"/>
            <a:ext cx="484200" cy="6415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509840" y="2949480"/>
            <a:ext cx="498240" cy="657360"/>
          </a:xfrm>
          <a:prstGeom prst="rect">
            <a:avLst/>
          </a:prstGeom>
          <a:noFill/>
          <a:ln w="381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517120" y="29876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645640" y="3084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517120" y="332892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645640" y="3425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698280" y="332892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826800" y="3425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629720" y="317196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758240" y="326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698280" y="30402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826800" y="3137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018520" y="41180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14740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241360" y="4118040"/>
            <a:ext cx="37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 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60928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703240" y="4118040"/>
            <a:ext cx="37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 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06972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163680" y="4118040"/>
            <a:ext cx="37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 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3016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23760" y="4118040"/>
            <a:ext cx="37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 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99204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946240" y="51483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214960" y="5767560"/>
            <a:ext cx="890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tati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793320" y="5767560"/>
            <a:ext cx="104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092480" y="5006880"/>
            <a:ext cx="515880" cy="64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092480" y="5006880"/>
            <a:ext cx="54144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118040" y="5032440"/>
            <a:ext cx="503280" cy="6300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130640" y="5057640"/>
            <a:ext cx="490680" cy="595440"/>
          </a:xfrm>
          <a:prstGeom prst="rect">
            <a:avLst/>
          </a:prstGeom>
          <a:noFill/>
          <a:ln w="381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408640" y="5006880"/>
            <a:ext cx="517320" cy="67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408640" y="5006880"/>
            <a:ext cx="542880" cy="69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435640" y="5032440"/>
            <a:ext cx="488880" cy="646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435640" y="5032440"/>
            <a:ext cx="490320" cy="646200"/>
          </a:xfrm>
          <a:prstGeom prst="rect">
            <a:avLst/>
          </a:pr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252320" y="50720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379400" y="516564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562000" y="51228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688000" y="52243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226760" y="535608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353840" y="545796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544360" y="54054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671440" y="548316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485040" y="5162400"/>
            <a:ext cx="2896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bject produced by transaction 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(with write timestamp 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read timestamp 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i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oordinato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0920" y="1606680"/>
            <a:ext cx="83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penTransaction() -&gt; tra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s a new transaction and delivers a unique TI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is identifier will be used in the other operations in the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loseTransaction(trans) -&gt; (commit, abor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s a transaction: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turn value indicates that the transaction has  committed;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turn value indicates that it has ab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Transaction(tran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orts the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1000" y="5299200"/>
            <a:ext cx="777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 life histor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4800" y="2112840"/>
            <a:ext cx="8626320" cy="2427480"/>
            <a:chOff x="604800" y="2112840"/>
            <a:chExt cx="8626320" cy="2427480"/>
          </a:xfrm>
        </p:grpSpPr>
        <p:sp>
          <p:nvSpPr>
            <p:cNvPr id="100" name=""/>
            <p:cNvSpPr/>
            <p:nvPr/>
          </p:nvSpPr>
          <p:spPr>
            <a:xfrm>
              <a:off x="1247760" y="2157480"/>
              <a:ext cx="85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Successfu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3280" y="2157480"/>
              <a:ext cx="141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Aborted by 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95480" y="2157480"/>
              <a:ext cx="147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Aborted by 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81640" y="21574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43560" y="21574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1880" y="2479680"/>
              <a:ext cx="1418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open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36240" y="2479680"/>
              <a:ext cx="1418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open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5680" y="2479680"/>
              <a:ext cx="1418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open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3560" y="270972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7920" y="270972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07000" y="270972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81440" y="27097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3360" y="27097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560" y="29415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7920" y="29415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07000" y="29415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1440" y="294156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43360" y="294156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3320" y="3171960"/>
              <a:ext cx="119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New York"/>
                </a:rPr>
                <a:t>server abor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53680" y="3433680"/>
              <a:ext cx="101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New York"/>
                </a:rPr>
                <a:t>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3560" y="36939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77920" y="36939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3520" y="3726000"/>
              <a:ext cx="1439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 ERR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82960" y="3986280"/>
              <a:ext cx="145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reported to 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0440" y="4218120"/>
              <a:ext cx="141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close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32640" y="4218120"/>
              <a:ext cx="146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abort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074600" y="3316320"/>
              <a:ext cx="74520" cy="239760"/>
              <a:chOff x="1074600" y="3316320"/>
              <a:chExt cx="74520" cy="239760"/>
            </a:xfrm>
          </p:grpSpPr>
          <p:sp>
            <p:nvSpPr>
              <p:cNvPr id="127" name=""/>
              <p:cNvSpPr/>
              <p:nvPr/>
            </p:nvSpPr>
            <p:spPr>
              <a:xfrm>
                <a:off x="1074600" y="331632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74600" y="348120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444840" y="3317760"/>
              <a:ext cx="74520" cy="239760"/>
              <a:chOff x="3444840" y="3317760"/>
              <a:chExt cx="74520" cy="239760"/>
            </a:xfrm>
          </p:grpSpPr>
          <p:sp>
            <p:nvSpPr>
              <p:cNvPr id="130" name=""/>
              <p:cNvSpPr/>
              <p:nvPr/>
            </p:nvSpPr>
            <p:spPr>
              <a:xfrm>
                <a:off x="3444840" y="331776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44840" y="348264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7729560" y="3317760"/>
              <a:ext cx="74520" cy="239760"/>
              <a:chOff x="7729560" y="3317760"/>
              <a:chExt cx="74520" cy="239760"/>
            </a:xfrm>
          </p:grpSpPr>
          <p:sp>
            <p:nvSpPr>
              <p:cNvPr id="133" name=""/>
              <p:cNvSpPr/>
              <p:nvPr/>
            </p:nvSpPr>
            <p:spPr>
              <a:xfrm>
                <a:off x="7729560" y="331776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29560" y="348264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438600" y="3556080"/>
              <a:ext cx="59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604800" y="2112840"/>
              <a:ext cx="8626320" cy="2427480"/>
              <a:chOff x="604800" y="2112840"/>
              <a:chExt cx="8626320" cy="2427480"/>
            </a:xfrm>
          </p:grpSpPr>
          <p:sp>
            <p:nvSpPr>
              <p:cNvPr id="137" name=""/>
              <p:cNvSpPr/>
              <p:nvPr/>
            </p:nvSpPr>
            <p:spPr>
              <a:xfrm>
                <a:off x="604800" y="2112840"/>
                <a:ext cx="862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4800" y="2416320"/>
                <a:ext cx="862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4800" y="4540320"/>
                <a:ext cx="862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lost update probl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6800" y="1860480"/>
            <a:ext cx="8273880" cy="3949920"/>
            <a:chOff x="766800" y="1860480"/>
            <a:chExt cx="8273880" cy="3949920"/>
          </a:xfrm>
        </p:grpSpPr>
        <p:sp>
          <p:nvSpPr>
            <p:cNvPr id="142" name=""/>
            <p:cNvSpPr/>
            <p:nvPr/>
          </p:nvSpPr>
          <p:spPr>
            <a:xfrm>
              <a:off x="1011600" y="193212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8080" y="1932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65360" y="1932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73840" y="19321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1080" y="230184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1800" y="263520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92520" y="2968560"/>
              <a:ext cx="2321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39000" y="193212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96200" y="1932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62880" y="1932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37560" y="237348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38280" y="270684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38640" y="3040200"/>
              <a:ext cx="230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0720" y="3468600"/>
              <a:ext cx="2615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4200" y="34862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37560" y="387504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40680" y="3879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38280" y="428004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40680" y="42973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1800" y="468468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94200" y="47023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2520" y="5089680"/>
              <a:ext cx="2321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93480" y="5106960"/>
              <a:ext cx="48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8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38640" y="5494320"/>
              <a:ext cx="230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40680" y="55119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8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800" y="186048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6800" y="333216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6800" y="581040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6520" y="1873080"/>
              <a:ext cx="0" cy="393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inconsistent retrievals probl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8360" y="1838160"/>
            <a:ext cx="8693280" cy="3583080"/>
            <a:chOff x="468360" y="1838160"/>
            <a:chExt cx="8693280" cy="3583080"/>
          </a:xfrm>
        </p:grpSpPr>
        <p:sp>
          <p:nvSpPr>
            <p:cNvPr id="173" name=""/>
            <p:cNvSpPr/>
            <p:nvPr/>
          </p:nvSpPr>
          <p:spPr>
            <a:xfrm>
              <a:off x="693720" y="18748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21040" y="18748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4560" y="1874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69440" y="1874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9480" y="2230560"/>
              <a:ext cx="170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9120" y="258120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6120" y="18748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16400" y="18748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1400" y="186840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1440" y="2376360"/>
              <a:ext cx="23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Branch.branchTotal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8360" y="1838160"/>
              <a:ext cx="39574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1400" y="183816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6600" y="1838160"/>
              <a:ext cx="46850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51400" y="1863720"/>
              <a:ext cx="1440" cy="102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9120" y="310212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58600" y="31291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60" y="2914560"/>
              <a:ext cx="30319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4400" y="291456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49600" y="2914560"/>
              <a:ext cx="8762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51400" y="291456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76600" y="2914560"/>
              <a:ext cx="36086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10440" y="291456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34200" y="2914560"/>
              <a:ext cx="1027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24400" y="2940120"/>
              <a:ext cx="2520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1400" y="2940120"/>
              <a:ext cx="1440" cy="401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2520" y="3527280"/>
              <a:ext cx="227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45000" y="35416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51400" y="3365640"/>
              <a:ext cx="1440" cy="401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80720" y="3954600"/>
              <a:ext cx="291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45000" y="396720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51400" y="3792600"/>
              <a:ext cx="144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81080" y="4379760"/>
              <a:ext cx="289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c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1400" y="4218120"/>
              <a:ext cx="144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120" y="480528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58600" y="48322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51400" y="4643280"/>
              <a:ext cx="1440" cy="401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360" y="5419800"/>
              <a:ext cx="30319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4400" y="5068800"/>
              <a:ext cx="252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24400" y="54198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49600" y="5419800"/>
              <a:ext cx="8762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51400" y="5068800"/>
              <a:ext cx="1440" cy="325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51400" y="54198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76600" y="5419800"/>
              <a:ext cx="36086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10440" y="5068800"/>
              <a:ext cx="237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10440" y="54198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34200" y="5419800"/>
              <a:ext cx="1027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4770360" y="4867200"/>
              <a:ext cx="74520" cy="239760"/>
              <a:chOff x="4770360" y="4867200"/>
              <a:chExt cx="74520" cy="239760"/>
            </a:xfrm>
          </p:grpSpPr>
          <p:sp>
            <p:nvSpPr>
              <p:cNvPr id="220" name=""/>
              <p:cNvSpPr/>
              <p:nvPr/>
            </p:nvSpPr>
            <p:spPr>
              <a:xfrm>
                <a:off x="4770360" y="48672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70360" y="503208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ially equivalent interleaving of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26000" y="283212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72560" y="2832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26000" y="5345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02320" y="5345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72560" y="5345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55560" y="1793880"/>
            <a:ext cx="8466120" cy="3978360"/>
            <a:chOff x="655560" y="1793880"/>
            <a:chExt cx="8466120" cy="3978360"/>
          </a:xfrm>
        </p:grpSpPr>
        <p:sp>
          <p:nvSpPr>
            <p:cNvPr id="229" name=""/>
            <p:cNvSpPr/>
            <p:nvPr/>
          </p:nvSpPr>
          <p:spPr>
            <a:xfrm>
              <a:off x="896760" y="183024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92120" y="18302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7560" y="18302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10640" y="1830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040" y="219240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7320" y="253368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78760" y="2874960"/>
              <a:ext cx="24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28920" y="183024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22480" y="1830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92040" y="18302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66560" y="1830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24600" y="219240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23880" y="253368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25680" y="2874960"/>
              <a:ext cx="244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5560" y="1793880"/>
              <a:ext cx="4221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00680" y="179388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25880" y="1793880"/>
              <a:ext cx="4195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00680" y="1817640"/>
              <a:ext cx="1440" cy="1416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7680" y="3440160"/>
              <a:ext cx="268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58560" y="344016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560" y="3257640"/>
              <a:ext cx="32446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9560" y="3257640"/>
              <a:ext cx="927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00680" y="287496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25880" y="3259080"/>
              <a:ext cx="32194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920" y="325764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94680" y="3257640"/>
              <a:ext cx="927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24360" y="3281400"/>
              <a:ext cx="2520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0680" y="328140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70920" y="3281400"/>
              <a:ext cx="23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7320" y="385452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8560" y="38545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24360" y="378468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00680" y="3697200"/>
              <a:ext cx="1440" cy="3891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70920" y="369720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24600" y="416412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03680" y="41641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24360" y="411156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00680" y="411156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70920" y="411156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23880" y="457992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03680" y="45799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24360" y="452592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00680" y="452592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70920" y="452592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8760" y="4940280"/>
              <a:ext cx="24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58200" y="4940280"/>
              <a:ext cx="51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05120" y="50259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78200" y="50259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24360" y="494028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00680" y="494028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70920" y="494028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25680" y="5354640"/>
              <a:ext cx="244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03680" y="53546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7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560" y="5770440"/>
              <a:ext cx="32446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24360" y="5354640"/>
              <a:ext cx="2520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24360" y="577044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49560" y="5770440"/>
              <a:ext cx="9270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00680" y="535464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00680" y="577044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5770440"/>
              <a:ext cx="32194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70920" y="5354640"/>
              <a:ext cx="23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94680" y="5770440"/>
              <a:ext cx="9270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ially equivalent interleaving of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99000" y="282240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37520" y="282240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99000" y="537696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16280" y="53769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37520" y="5376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74640" y="1731960"/>
            <a:ext cx="8604360" cy="3621240"/>
            <a:chOff x="674640" y="1731960"/>
            <a:chExt cx="8604360" cy="3621240"/>
          </a:xfrm>
        </p:grpSpPr>
        <p:sp>
          <p:nvSpPr>
            <p:cNvPr id="298" name=""/>
            <p:cNvSpPr/>
            <p:nvPr/>
          </p:nvSpPr>
          <p:spPr>
            <a:xfrm>
              <a:off x="865080" y="17668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1320" y="17668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53400" y="1766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27920" y="1766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03960" y="206676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03960" y="241452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8120" y="17668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65440" y="17668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7200" y="1766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43440" y="2263680"/>
              <a:ext cx="23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Branch.branchTotal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4640" y="1731960"/>
              <a:ext cx="391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16280" y="173196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1840" y="1731960"/>
              <a:ext cx="4637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16280" y="1757520"/>
              <a:ext cx="1800" cy="1015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03960" y="298296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3200" y="29084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4640" y="2798640"/>
              <a:ext cx="30006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99000" y="279864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24200" y="2798640"/>
              <a:ext cx="8683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16280" y="279864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41840" y="2798640"/>
              <a:ext cx="35701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37520" y="279864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61280" y="2798640"/>
              <a:ext cx="10177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9000" y="282240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16280" y="2822400"/>
              <a:ext cx="1800" cy="39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37520" y="2822400"/>
              <a:ext cx="237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3960" y="340344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3200" y="33289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99000" y="324468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16280" y="3244680"/>
              <a:ext cx="1800" cy="39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237520" y="3244680"/>
              <a:ext cx="2376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44520" y="3825720"/>
              <a:ext cx="227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71720" y="375120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99000" y="366552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16280" y="366552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37520" y="3665520"/>
              <a:ext cx="237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42720" y="4246560"/>
              <a:ext cx="291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71720" y="41734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99000" y="408780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16280" y="408780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37520" y="4087800"/>
              <a:ext cx="2376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43080" y="4668840"/>
              <a:ext cx="289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c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99000" y="450864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16280" y="450864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37520" y="4508640"/>
              <a:ext cx="237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50280" y="498492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4640" y="5351400"/>
              <a:ext cx="30006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99000" y="4930920"/>
              <a:ext cx="252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99000" y="53514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24200" y="5351400"/>
              <a:ext cx="8683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16280" y="493092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16280" y="535140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1840" y="5351400"/>
              <a:ext cx="35701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37520" y="4930920"/>
              <a:ext cx="2376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37520" y="53514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61280" y="5351400"/>
              <a:ext cx="10177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11-25T17:50:46Z</dcterms:modified>
  <cp:revision>109</cp:revision>
  <dc:subject/>
  <dc:title>Figure 15.1 A distributed multimedia system</dc:title>
</cp:coreProperties>
</file>